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F5E-60B0-43A8-A4B0-3F82A7B2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BC8-E7AE-4B46-B06E-0F55C640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112-62D1-4617-8EAE-97E09558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24A-A95F-49DF-8AE8-E53797AE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E54-9D00-48F9-A157-3EDA2A5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C69-B409-41CC-87DD-1D63DA19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A5E-F50F-4AD2-978D-9A19E2F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FCB-B5ED-4FE1-9038-8D962DC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E0E-CD60-4740-BF8E-B71C79C9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78E-B6B4-4BF5-B1F6-ECBDFFB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423-6913-45C8-8258-5417181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308-9F5F-4922-85AA-AAE61D47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478-34EE-46F2-A59F-EBCBC56C5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80" y="1981080"/>
            <a:ext cx="8915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secuencias e implicaciones de su entrada en vigor, en caso de no contar con una ley de bioseguridad de OG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65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Junio,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mas vinculados en e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663480"/>
            <a:ext cx="17528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663480"/>
            <a:ext cx="2438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663480"/>
            <a:ext cx="175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14624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81764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GANIZACIÓN MUNDIAL DE 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790640"/>
            <a:ext cx="2209680" cy="644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435400"/>
            <a:ext cx="0" cy="12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825720"/>
            <a:ext cx="21337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didas Sanitarias y Fitosanit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554360"/>
            <a:ext cx="21337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táculos Técnicos al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738600"/>
            <a:ext cx="152640" cy="1509840"/>
          </a:xfrm>
          <a:custGeom>
            <a:avLst/>
            <a:gdLst>
              <a:gd name="textAreaLeft" fmla="*/ 0 w 152640"/>
              <a:gd name="textAreaRight" fmla="*/ 55080 w 15264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4840" y="18352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OGRAMA DE LAS NACIONES UNIDAS PARA EL MEDIO AMBIE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22560" y="1679400"/>
            <a:ext cx="3657600" cy="75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2560" y="4341960"/>
            <a:ext cx="1781280" cy="3402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114624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56320" y="109872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2759040"/>
            <a:ext cx="2133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VENIO SOBRE LA DIVERSIDAD BI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86360" y="4316400"/>
            <a:ext cx="1940040" cy="721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rovechamiento de Recursos Gené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1792440"/>
            <a:ext cx="16002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DEX ALIMENTARIU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OMS/F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1790640"/>
            <a:ext cx="1447920" cy="644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2435400"/>
            <a:ext cx="0" cy="18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77120" y="4295880"/>
            <a:ext cx="1476360" cy="3402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ocu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5305320"/>
            <a:ext cx="2133720" cy="51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ROPIEDAD INTELEC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RI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127920" y="509220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75040" y="243360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73320" y="5986440"/>
            <a:ext cx="2032200" cy="10533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OCOLO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E CARTA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077320" y="465444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505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381040" y="5670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59040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29360" y="59040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105160" y="6342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3494160"/>
            <a:ext cx="0" cy="79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0880" y="3494160"/>
            <a:ext cx="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467208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724280" y="2819520"/>
            <a:ext cx="3048120" cy="2361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952880"/>
            <a:ext cx="2590920" cy="1371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3124080"/>
            <a:ext cx="2590920" cy="1371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0666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tado internacional de carácter AMBI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incidencia directa y fundamental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76320" y="33526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rcio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5194440"/>
            <a:ext cx="30481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3143160"/>
            <a:ext cx="3048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anidad anim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53000"/>
            <a:ext cx="3048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anidad veget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43360" y="4362480"/>
            <a:ext cx="3048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anidad acuíco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990720"/>
            <a:ext cx="67816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1"/>
            <a:endCxn id="153" idx="1"/>
          </p:cNvCxnSpPr>
          <p:nvPr/>
        </p:nvCxnSpPr>
        <p:spPr>
          <a:xfrm flipV="1" rot="10800000">
            <a:off x="531000" y="1560960"/>
            <a:ext cx="430920" cy="176436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61" idx="2"/>
            <a:endCxn id="152" idx="0"/>
          </p:cNvCxnSpPr>
          <p:nvPr/>
        </p:nvCxnSpPr>
        <p:spPr>
          <a:xfrm rot="5400000">
            <a:off x="2585160" y="3157200"/>
            <a:ext cx="2791440" cy="801000"/>
          </a:xfrm>
          <a:prstGeom prst="bentConnector3">
            <a:avLst>
              <a:gd name="adj1" fmla="val 49477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61" idx="3"/>
            <a:endCxn id="159" idx="3"/>
          </p:cNvCxnSpPr>
          <p:nvPr/>
        </p:nvCxnSpPr>
        <p:spPr>
          <a:xfrm flipH="1">
            <a:off x="7771680" y="1561680"/>
            <a:ext cx="29160" cy="2413800"/>
          </a:xfrm>
          <a:prstGeom prst="bentConnector3">
            <a:avLst>
              <a:gd name="adj1" fmla="val -700000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8960" y="1193760"/>
            <a:ext cx="320040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claración de Río sobre el Med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mbiente y el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(Cumbre de la Tier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91080" y="2573280"/>
            <a:ext cx="3124080" cy="74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venio sobr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iversidad Bi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3846600"/>
            <a:ext cx="3581640" cy="87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ROTOCOLO DE CARTAGENA SOB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SEGURIDAD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BIOTECN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52800" y="1447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04812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tados internacionales ambientales suscritos y ratificados por 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360" y="2971800"/>
            <a:ext cx="3276720" cy="2438280"/>
          </a:xfrm>
          <a:prstGeom prst="ellipse">
            <a:avLst/>
          </a:prstGeom>
          <a:noFill/>
          <a:ln w="31680">
            <a:solidFill>
              <a:srgbClr val="000000"/>
            </a:solidFill>
            <a:prstDash val="sysDot"/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143000" y="2057400"/>
            <a:ext cx="247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514600" y="1852200"/>
            <a:ext cx="1009800" cy="12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276720" y="3124080"/>
            <a:ext cx="1162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4191120"/>
            <a:ext cx="192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960" y="838080"/>
            <a:ext cx="1752840" cy="131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rograma de las N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das para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7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éxico frente a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96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53280" y="16002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641920"/>
            <a:ext cx="8305920" cy="1059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tocolo de Cartagena fue adoptado el 29 de enero de 2000, por más de 130 países. Abierto a firma en mayo de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Senado de la República ratificó el Protocolo el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0 de abril de 200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4100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spectos principales del Dictamen del Senado por el que se aprobó e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371600"/>
            <a:ext cx="79250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La biotecnología guarda estrecha relación con la biosegur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El Protocolo refleja la preocupación de la comunidad internacional sobre los riesgos probables para la bioseguridad y la salud humana en la aplicación de la biotecnología moder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Nuestro país cuenta con regulaciones en materia de bioseguridad mínimas y dispers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ahoma"/>
              </a:rPr>
              <a:t>Se requiere de una ley que específicamente se refiera a la bioseguridad y que sea compatible con las normas de instrumentación del Protocolo</a:t>
            </a: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México enfrenta el enorme reto de aprovechar al máximo el potencial de la biotecnología con responsabilidad y concie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Se requiere proteger la diversidad biológica y atender preventivamente riesgos a la salud humana, sin generar obstáculos innecesarios al comercio exterior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240" y="85680"/>
            <a:ext cx="8991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- Entrada en vig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7082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NTRADA EN VIGOR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90 (noventa) días posteriores a su ratificación por 50 (cincuenta) países signatarios del Convenio sobre la Diversidad Biológic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63960"/>
            <a:ext cx="90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tir del 30 de mayo de 2003, fue ratificado por 50 países. Entrará en vigor para México e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1 de septiembre de 200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43556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PLICACIÓN DEL PROTOCOLO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n caso de que los países signatario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 cuent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 una legislación interna en materia de bioseguridad de OVMs, al momento de que entre en vigo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plicarán las disposiciones del Protocolo en ausencia de legislació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895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ituación actual en México en materia de bioseguridad de OG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7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ción vigente en México: Probl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160" y="1050840"/>
            <a:ext cx="883908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La legislació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tá disper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 ordenamientos desvinculados (salud, sanidad animal, vegetal y acuícola y ambien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 incomplet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pues regula aspectos de actividades aisladas (investigación o experimentación) y no tiene una estructura sistem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 impreci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ya que contiene conceptos ambiguos y confu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 discreciona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en tanto que no establece procedimientos, plazos ni requisitos para la tramitación y obtención de autorizaciones y certif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.   Es restrictiv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debido a que genera incertidumb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 ha evolucionad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lo suficiente para coincidir con los trabajos de la comunidad internacional y, en particular, con el Protocolo de Cartag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 está resuelta la distribución de competenci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tre Secreta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 Las disposiciones existentes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no reconocen explícitament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el sustento científico y tecnológico que requiere la biosegu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03280" y="1066680"/>
            <a:ext cx="1593720" cy="702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N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GE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085760"/>
            <a:ext cx="1905120" cy="702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CCIÓ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78400" y="2120760"/>
            <a:ext cx="925560" cy="271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GEE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05320" y="2743200"/>
            <a:ext cx="1104840" cy="81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LGEEPA (Evaluación del Impacto Ambien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2290680"/>
            <a:ext cx="793800" cy="271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F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5056200"/>
            <a:ext cx="1976400" cy="15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rma Oficial Mexicana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M FITO-056-1995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Por la que se establecen los requisitos fitosanitarios para la movilización nacional, importación y establecimiento de pruebas de campo de organismos manipulados mediante la aplicación de ingeniería gené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1066680"/>
            <a:ext cx="1593720" cy="702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N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I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51280" y="2273400"/>
            <a:ext cx="1396800" cy="271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F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4400" y="24940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1160" y="18828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2290680"/>
            <a:ext cx="793800" cy="39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y Semi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5200" y="186516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8200" y="186516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520" y="3138480"/>
            <a:ext cx="793800" cy="210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 L Sem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278460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3600" y="186516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1079640"/>
            <a:ext cx="1904760" cy="672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RROLLO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88080" y="2114640"/>
            <a:ext cx="925560" cy="271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D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0840" y="187632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9" idx="2"/>
            <a:endCxn id="200" idx="0"/>
          </p:cNvCxnSpPr>
          <p:nvPr/>
        </p:nvCxnSpPr>
        <p:spPr>
          <a:xfrm flipH="1" rot="16200000">
            <a:off x="-249120" y="3436560"/>
            <a:ext cx="2418480" cy="821520"/>
          </a:xfrm>
          <a:prstGeom prst="bentConnector3">
            <a:avLst>
              <a:gd name="adj1" fmla="val 494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0" y="133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RDENAMIENTOS VIGENTES EN MATERIA DE BIOSEGUR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19040" y="685800"/>
            <a:ext cx="830592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materi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ROPECUAR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a Ley Federal de Sanidad Vegetal (LFSV) sólo regula la fase experimental y no la liberación comercial al ambiente ni la comercialización de OG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a LFSV se refiere al “material transgénico” como insumo fitosanitario (combate de plagas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a Ley sobre Producción, Certificación y Comercio de Semillas contiene disposiciones aisladas y poco claras de “materiales transgénicos de alto riesgo”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El Reglamento de la Ley de Semillas contiene disposiciones poco claras sobre la tramitación de permisos para investigar en materia de semillas consideradas como material transgénico de alto riesg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La Ley Federal de Sanidad Animal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 contien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ninguna disposición sobre bioseguridad de OG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77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ción vigente en México: Probl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1276200"/>
            <a:ext cx="8477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materia d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ARROLLO RUR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Ley de Desarrollo Rural Sustentable (LDRS)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idera de interés público las medidas de prevención para los OGMs de origen animal y veg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LDRS establece principios y políticas relativos al uso y manejo de OGMs, pero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gula actividades con esos organism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Los principios y políticas son imprecisos, confunde la bioseguridad con inocuidad y establece,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n defini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el principio precau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7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ción vigente en México: Probl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Í N D I C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7960"/>
            <a:ext cx="91440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Antecedentes del Protocolo de Cartage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Situación actual en México en materia de bioseguridad de OG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Consecuencias e implicaciones de la entrada en vigor del Protocolo: Sin contar con una ley de bioseguridad de OGM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905120"/>
            <a:ext cx="891540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1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Ausencia de ley que implemente las obligaciones del Protocol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2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Aplicación directa del Protoc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3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Competencia de las Autoridades Mexicanas en la aplicación del Protoc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4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Aplicación directa del procedimiento de Acuerdo Fundamentado Previo (APF) establecido en el Protoc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5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Aplicación directa del procedimiento para OGMs destinados para Uso Directo como alimento humano o animal o para proces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6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valuación de riesg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7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Aplicación directa de la Gestión del riesgo establecida en el Protoc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8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Identificación de OG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9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Centros Focales Nacion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10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Participació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11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Responsabilida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3.12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Otras implicaciones: Interpretación y aplicación arbitrarias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Distorsión de relaciones comerciales internacionales: OMC, TLC, TLCU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-17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ción vigente en México: Probl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609480"/>
            <a:ext cx="84582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n materia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MBIENTA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a bioseguridad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 es materia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de la Ley General del Equilibrio Ecológico y la Protección al Ambiente (LGEEPA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se contempla ningún instrumento ni procedimiento para el análisis y evaluación del riesgo ambiental ni para la protección de centros de origen y de diversidad genétic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l Reglamento de la LGEEPA en materia de Evaluación del Impacto Ambiental establece dos disposiciones aisladas sobre especies transgénicas (forestales y acuáticas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n materia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ANITARIA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a legislación sanitaria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 distingu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biotecnología moderna de tradicional, ni OGMs de productos derivad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establece procedimientos ni plazos para resolver sobre autorizaciones de OGMs para uso o consumo human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77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741320"/>
            <a:ext cx="746784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M-056-FITO-199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ólo regula la importación y la liberación al medio ambiente, de OGMs en pruebas de campo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uebas  experimenta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 excluye la liberación para fines comercia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  OGMs. No existe base legal para la expedición de una NOM con este al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ción vigente en México: Probl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981080"/>
            <a:ext cx="914400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Consecuencias e implicaciones de la entrada en vigor del Protoc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Sin contar con una ley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oseguridad de OGMs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sencia de ley que imple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obligaciones del 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695600"/>
            <a:ext cx="3352680" cy="4038480"/>
          </a:xfrm>
          <a:prstGeom prst="verticalScrol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3344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2209680"/>
            <a:ext cx="2438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Estados tomarán l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didas legislativas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as y de otro tipo necesarias y convenien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 cumplir las obligaciones dimanantes del Proto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066680"/>
            <a:ext cx="2971800" cy="16765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14320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Y DE BIOSEGURIDAD DE O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066680"/>
            <a:ext cx="2895480" cy="1676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867280" y="990360"/>
            <a:ext cx="2514600" cy="190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9144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154400"/>
            <a:ext cx="4572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 incumple una de las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obligaciones más importantes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del Protoco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éxico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o estará en posibilidad de garantizar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n un marco regulatorio propio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a protección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de su diversidad biológica, de la salud humana de sus habitantes y de la sanidad animal, vegetal y acuícola, respecto de los riesgos que les pudieran representar los OGM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812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2895480"/>
            <a:ext cx="3505320" cy="12193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352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ECU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l 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819000"/>
            <a:ext cx="5562360" cy="182880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81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TITUCIÓN POLÍ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71840" y="148896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t.1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1222200"/>
            <a:ext cx="4419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a Constitución, las leyes del Congreso de la Unión que emanen de ella y todos lo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tados que estén de acuerdo con la misma, celebrados y que se celebren por el Presidente de la República, con aprobación del Senad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rán la Ley Suprem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de toda la U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3505320" cy="33526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0481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354816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scrito por el Presidente de 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tificado por la Cámara de Sen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rada en vig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7" idx="1"/>
            <a:endCxn id="251" idx="0"/>
          </p:cNvCxnSpPr>
          <p:nvPr/>
        </p:nvCxnSpPr>
        <p:spPr>
          <a:xfrm flipV="1" rot="10800000">
            <a:off x="1980360" y="1733040"/>
            <a:ext cx="381960" cy="1239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304920" y="5425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Y VIGENTE PARA 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3581280"/>
            <a:ext cx="2209680" cy="1905120"/>
          </a:xfrm>
          <a:prstGeom prst="rightArrow">
            <a:avLst>
              <a:gd name="adj1" fmla="val 50000"/>
              <a:gd name="adj2" fmla="val 2899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8040" y="415620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licable directamente*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2705040"/>
            <a:ext cx="30481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mportaciones y exportaciones de OG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Procedimiento de acuerdo fundamentado prev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Evaluación y gestión de riesg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Procedimiento para OGMs destinados para uso directo como alimento humano o animal o para proces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Manejo, transporte, envasado, etiquetado e identificación de OG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nformación conf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Participación púb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mportaciones y exportaciones de OGMs ilícit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Otros aspec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6324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n y cuando no exista legislación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876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9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encias de las Autoridades Mexicanas en la aplicación de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990720"/>
            <a:ext cx="350532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990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360" y="1752480"/>
            <a:ext cx="28954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ece obligaciones a cargo de lo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ados que lo suscrib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establece competenci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Eso corresponde a los Es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495680"/>
            <a:ext cx="3124440" cy="2210040"/>
          </a:xfrm>
          <a:prstGeom prst="flowChartDocumen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3962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495680"/>
            <a:ext cx="2895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ENCI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sponde a las leyes nacionales establecerlas, en lo general y sobr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erias específic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2743200"/>
            <a:ext cx="419112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lictos competenciales entre la SEMARNAT, la SAGARPA y la S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aves complicaciones para atender y resolver solicitudes sobre importaciones, liberaciones al ambiente y utilización de OG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eguridad jurídica absoluta a los particulares, al no saber quien es la autoridad competente para atender sus solicitu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ecto de una solicitud pueden dos Secretarías aplicar el mismo instrumento para resol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bles impugn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2362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2" idx="3"/>
            <a:endCxn id="268" idx="1"/>
          </p:cNvCxnSpPr>
          <p:nvPr/>
        </p:nvCxnSpPr>
        <p:spPr>
          <a:xfrm>
            <a:off x="3885840" y="2476440"/>
            <a:ext cx="1067400" cy="22694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4876920" y="971640"/>
            <a:ext cx="39621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27944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 CONTA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 LEY DE BIOSEGURIDAD DE O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876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9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l procedimiento de Acuerdo Fundamentado Previo (APF) establecido en el 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1752480"/>
            <a:ext cx="3962520" cy="3657600"/>
          </a:xfrm>
          <a:prstGeom prst="flowChartMulti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676520"/>
            <a:ext cx="35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995480"/>
            <a:ext cx="35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2514600"/>
            <a:ext cx="3409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s de 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mera importació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 un OGM destinado a su liberación a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914400"/>
            <a:ext cx="464832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ROCEDIMIENTO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Notificación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exportador-Autoridades del país al que se importa el OGM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Acuse de recibo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- Autoridades del país al que se importa el OGM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Decisión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- Autoridades del país al que se importa el OGM, 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Termino para resolve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90 (3 meses) a 270 (nueve) días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, prorrogables indefinidament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1371600"/>
            <a:ext cx="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6" idx="0"/>
            <a:endCxn id="279" idx="1"/>
          </p:cNvCxnSpPr>
          <p:nvPr/>
        </p:nvCxnSpPr>
        <p:spPr>
          <a:xfrm flipH="1" rot="16200000">
            <a:off x="2381760" y="1654920"/>
            <a:ext cx="2092680" cy="2135880"/>
          </a:xfrm>
          <a:prstGeom prst="bentConnector4">
            <a:avLst>
              <a:gd name="adj1" fmla="val -10925"/>
              <a:gd name="adj2" fmla="val 90997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4495680" y="137160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-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squema: Aplicación del procedimiento de AP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2171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País de expor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47644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Export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229860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60496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22986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2860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3333cc"/>
                </a:solidFill>
                <a:latin typeface="Tahoma"/>
              </a:rPr>
              <a:t>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243828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6760" y="232416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País de impor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733920" y="25524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285768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3333cc"/>
                </a:solidFill>
                <a:latin typeface="Tahoma"/>
              </a:rPr>
              <a:t>ACUSE DE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495680" y="255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95680" y="28576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95680" y="3161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346716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ANÁLISIS DE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14800" y="377208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70504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009960"/>
            <a:ext cx="228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4686480"/>
            <a:ext cx="304560" cy="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33920" y="468648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529596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733920" y="468648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4076640"/>
            <a:ext cx="10670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9900"/>
                </a:solidFill>
                <a:latin typeface="Tahoma"/>
              </a:rPr>
              <a:t>SE EMITE NUE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9900"/>
                </a:solidFill>
                <a:latin typeface="Tahoma"/>
              </a:rPr>
              <a:t>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200" y="361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24400" y="3352680"/>
            <a:ext cx="18385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ahoma"/>
              </a:rPr>
              <a:t>EVALUACIÓN  DEL  RIES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733920" y="438120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705040"/>
            <a:ext cx="0" cy="152424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4229280"/>
            <a:ext cx="28954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92040" y="45100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NO se requi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consentimiento por escr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de las AUTO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92040" y="51195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SÍ se requi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consentimiento por escr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90960" y="4648320"/>
            <a:ext cx="76320" cy="759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90960" y="5257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9800" y="52959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4683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453384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cc00cc"/>
                </a:solidFill>
                <a:latin typeface="Tahoma"/>
              </a:rPr>
              <a:t>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cc00cc"/>
                </a:solidFill>
                <a:latin typeface="Tahoma"/>
              </a:rPr>
              <a:t>DE IMPOR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514368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3300"/>
                </a:solidFill>
                <a:latin typeface="Tahoma"/>
              </a:rPr>
              <a:t>DECISIÓN A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ahoma"/>
              </a:rPr>
              <a:t>270 D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733920" y="49906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0640" y="575316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0640" y="57528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0640" y="636264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470640" y="57528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470640" y="544788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27680" y="57150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27680" y="63244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470640" y="605808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73880" y="60580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30920" y="6019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3880" y="666756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473880" y="636228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30920" y="6629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99240" y="5638680"/>
            <a:ext cx="21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Aprobar la solicitud, con o sin cond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7760" y="5952960"/>
            <a:ext cx="128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Prohibir la impor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6800" y="62578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Solicitar información adi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14720" y="6562800"/>
            <a:ext cx="22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Prorrogar el plazo para la toma de dec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52894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4686480"/>
            <a:ext cx="304920" cy="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72440" y="4648320"/>
            <a:ext cx="1695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Centro de Intercamb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de Información sob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Seguridad de la Biotecnolog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2705040"/>
            <a:ext cx="0" cy="28576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90560" y="5075640"/>
            <a:ext cx="220680" cy="210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90560" y="4696200"/>
            <a:ext cx="220680" cy="210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5562720"/>
            <a:ext cx="6019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2400480"/>
            <a:ext cx="0" cy="7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10350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Primera importación de OGMs destinado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su liberación en 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65120" y="4896000"/>
            <a:ext cx="65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90 D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-209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squema: Plazos para el procedimiento de A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9440" y="3894120"/>
            <a:ext cx="1585800" cy="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0360" y="2128680"/>
            <a:ext cx="3151440" cy="388476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0360" y="2128680"/>
            <a:ext cx="2359080" cy="1765440"/>
          </a:xfrm>
          <a:prstGeom prst="line">
            <a:avLst/>
          </a:prstGeom>
          <a:ln w="9360">
            <a:solidFill>
              <a:srgbClr val="0099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5000" y="1295280"/>
            <a:ext cx="1109880" cy="4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3333cc"/>
                </a:solidFill>
                <a:latin typeface="Comic Sans MS"/>
              </a:rPr>
              <a:t>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593000">
            <a:off x="3339360" y="26287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90 D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2128680"/>
            <a:ext cx="174312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09920" y="1530360"/>
            <a:ext cx="1109520" cy="4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3333cc"/>
                </a:solidFill>
                <a:latin typeface="Comic Sans MS"/>
              </a:rPr>
              <a:t>ACUSE DE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70200">
            <a:off x="4572720" y="47700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270 D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88080" y="3335400"/>
            <a:ext cx="1109520" cy="4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9900"/>
                </a:solidFill>
                <a:latin typeface="Comic Sans MS"/>
              </a:rPr>
              <a:t>SE EMITE NUE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9900"/>
                </a:solidFill>
                <a:latin typeface="Comic Sans MS"/>
              </a:rPr>
              <a:t>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55680" y="1886040"/>
            <a:ext cx="177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NO se req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consentimiento por escr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5680" y="2827440"/>
            <a:ext cx="177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SÍ se req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consentimiento por escr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15120" y="3835440"/>
            <a:ext cx="79200" cy="1173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18280" y="5954760"/>
            <a:ext cx="79560" cy="117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81800" y="6013440"/>
            <a:ext cx="158580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15120" y="2187720"/>
            <a:ext cx="317520" cy="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315120" y="2187360"/>
            <a:ext cx="0" cy="4712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15120" y="3129120"/>
            <a:ext cx="317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315120" y="2187360"/>
            <a:ext cx="0" cy="4712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83320" y="2128680"/>
            <a:ext cx="79560" cy="1177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83320" y="3070080"/>
            <a:ext cx="79560" cy="117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315120" y="2658960"/>
            <a:ext cx="0" cy="4701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97600" y="3570120"/>
            <a:ext cx="3175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315120" y="3099960"/>
            <a:ext cx="0" cy="4698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3880" y="3659040"/>
            <a:ext cx="1109520" cy="4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cc00cc"/>
                </a:solidFill>
                <a:latin typeface="Comic Sans MS"/>
              </a:rPr>
              <a:t>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cc00cc"/>
                </a:solidFill>
                <a:latin typeface="Comic Sans MS"/>
              </a:rPr>
              <a:t>IMPOR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67680" y="5776920"/>
            <a:ext cx="1109520" cy="4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3300"/>
                </a:solidFill>
                <a:latin typeface="Comic Sans MS"/>
              </a:rPr>
              <a:t>DEC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5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l procedimiento de A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984240"/>
            <a:ext cx="91440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 LEY DE BIOSEGURIDAD DE OG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ción de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cedimiento complejo y genéric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ble a importaciones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GMs desarrollados en otros paí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 se destinen a su liberación al ambiente en Mé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 aplicable a OGMs que se desarrollen en Méxic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 ser liberados en el territorio nacional. VACÍO JURÍD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imiento lento. Pue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longarse indefinidam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salienta el desarrollo nac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materia de biotecnología y bio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ertidumbre e inseguridad juríd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los particulares: importadores, exportadores, desarrolladores y productore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Antecedentes del Protocolo de Cartag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90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plicación directa del procedimiento para OGMs destinados a USO DIRECTO como alimento humano o animal o para procesamiento (COMMODIT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1628640"/>
            <a:ext cx="3352680" cy="22860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752480"/>
            <a:ext cx="327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IMIEN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y de bioseguridad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4905360"/>
            <a:ext cx="33526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490536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plica procedimiento de Acuerdo Fundamenta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39146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905120"/>
            <a:ext cx="480060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 decisión de la autoridad sobre la importación de COMMODITIES se tomará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ante un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valuación de riesgo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la salud humana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ocuida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con imprecisiones y ambigüe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 un plazo que no exceda lo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70 dí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9 mes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utoridad que tomará la decisión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finid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squema: Aplicación directa del procedimiento para OGMs destinados a USO DIRECTO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22720" y="1295280"/>
            <a:ext cx="2482920" cy="58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PAÍS DE IM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89000" y="2063880"/>
            <a:ext cx="6750000" cy="36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¿CUENTA CON UN MARCO REGLAMENTARIO NACION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79600" y="2425680"/>
            <a:ext cx="0" cy="179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48400" y="2425680"/>
            <a:ext cx="0" cy="17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64000" y="188280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08200" y="2604960"/>
            <a:ext cx="1341360" cy="723960"/>
          </a:xfrm>
          <a:prstGeom prst="diamond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9900"/>
                </a:solidFill>
                <a:latin typeface="Tahoma"/>
              </a:rPr>
              <a:t>S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78440" y="2604960"/>
            <a:ext cx="1339920" cy="723960"/>
          </a:xfrm>
          <a:prstGeom prst="diamond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79600" y="3317760"/>
            <a:ext cx="0" cy="179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3510000"/>
            <a:ext cx="3983040" cy="3603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Podrá informar su desición definitiva en relación con el u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nacional de OGMs (leyes, reglamentaciones y directrices nacion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8400" y="332892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51480" y="3521160"/>
            <a:ext cx="398304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Podrá declarar que su decisión se adoptará de 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con lo siguiente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2360" y="3881520"/>
            <a:ext cx="0" cy="18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48400" y="5135400"/>
            <a:ext cx="3240" cy="192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1680" y="5497560"/>
            <a:ext cx="2382840" cy="90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Centro de Intercambi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Información sob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Seguridad de la Bio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56240" y="3881520"/>
            <a:ext cx="0" cy="18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39120" y="4954680"/>
            <a:ext cx="3240" cy="18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56240" y="4954680"/>
            <a:ext cx="1440" cy="18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79600" y="3870360"/>
            <a:ext cx="0" cy="1446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56240" y="5124600"/>
            <a:ext cx="1986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64000" y="531648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9600" y="5316480"/>
            <a:ext cx="20844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64000" y="5316480"/>
            <a:ext cx="208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2440" y="4070520"/>
            <a:ext cx="1714680" cy="903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Una evaluación de ries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de conformidad con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Protoco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Ambiental e Inocu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SEMARNA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7520" y="4051440"/>
            <a:ext cx="1584360" cy="903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Una decisión adopt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en plazos predeci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no excedan 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270 d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914400"/>
            <a:ext cx="487692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95560" y="1066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3352680"/>
            <a:ext cx="411480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rtación de OGMs para su liberación al ambiente en Mé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UERDO FUNDAMENTADO PREV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3352680"/>
            <a:ext cx="373392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rtación de OGMs para uso directo como alimento humano o animal o para proces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MOD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3276720"/>
            <a:ext cx="41148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76920" y="3276720"/>
            <a:ext cx="3886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5" idx="2"/>
            <a:endCxn id="419" idx="0"/>
          </p:cNvCxnSpPr>
          <p:nvPr/>
        </p:nvCxnSpPr>
        <p:spPr>
          <a:xfrm rot="5400000">
            <a:off x="3085560" y="1866960"/>
            <a:ext cx="686520" cy="2134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5" idx="2"/>
            <a:endCxn id="420" idx="0"/>
          </p:cNvCxnSpPr>
          <p:nvPr/>
        </p:nvCxnSpPr>
        <p:spPr>
          <a:xfrm flipH="1" rot="16200000">
            <a:off x="5314680" y="1771200"/>
            <a:ext cx="686520" cy="232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304920" y="5181480"/>
            <a:ext cx="411480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5219640"/>
            <a:ext cx="411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ció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 la notificación: ANEXO 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EXO I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cedimient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ra evaluar: Sólo ANEXO I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623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5181480"/>
            <a:ext cx="388620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2880" y="5562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cedimient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ra evaluar: ANEXO I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1600200"/>
            <a:ext cx="4876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ALUACIÓN DE RIESGO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licable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6320" y="2743200"/>
            <a:ext cx="3962160" cy="1447920"/>
          </a:xfrm>
          <a:prstGeom prst="flowChartAlternateProcess">
            <a:avLst/>
          </a:prstGeom>
          <a:solidFill>
            <a:srgbClr val="eaeaea"/>
          </a:solidFill>
          <a:ln w="2556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l mecanismo de Evalua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838080"/>
            <a:ext cx="266688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33800" y="914400"/>
            <a:ext cx="3981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ción de riesgos basada 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imientos científicos só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écnicas reconocidas de evaluación de 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ción que proporcione el exportador -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EX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uebas científicas dispon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procedimiento de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EXO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3"/>
            <a:endCxn id="436" idx="0"/>
          </p:cNvCxnSpPr>
          <p:nvPr/>
        </p:nvCxnSpPr>
        <p:spPr>
          <a:xfrm>
            <a:off x="2971800" y="1268280"/>
            <a:ext cx="1905840" cy="25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4876920" y="15238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6920" y="2610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1924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838080"/>
            <a:ext cx="2666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0400" y="4495680"/>
            <a:ext cx="594360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a evaluación del riesgo la realizan las AUTORIDA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incipios gener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spectos que es necesario tomar en cu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3886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4419720"/>
            <a:ext cx="5790960" cy="1828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81280"/>
            <a:ext cx="1600200" cy="3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440" y="2800440"/>
            <a:ext cx="373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naturaleza y el nivel de detalle de la información requerid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ede variar de un caso a otr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dependiendo del OVM de que se trate, su uso previsto y el probable ambiente receptor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6" idx="1"/>
            <a:endCxn id="430" idx="2"/>
          </p:cNvCxnSpPr>
          <p:nvPr/>
        </p:nvCxnSpPr>
        <p:spPr>
          <a:xfrm rot="10800000">
            <a:off x="2056680" y="4203000"/>
            <a:ext cx="962640" cy="113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l mecanismo de Evalua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38560" y="800280"/>
            <a:ext cx="5791320" cy="68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s un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cedimiento genérico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, que sólo establece criterios y lineamientos generales para realizar una evaluación de riesg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ara realizar evaluaciones de riesgos es indispensable contar con información específica y detallada del OGM, según su uso previsto y el probable ambiente receptor.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l Protocolo no comprende ese nivel de información, especificidad y detall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o se considera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la particularidad de México de ser centro de origen y de diversidad genética de especi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iscrecionalidad de las autoridades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al aplicar el procedimiento, tanto para solicitar información específica como para evaluar los riesg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 no existir disposiciones aplicables para evaluar los riesgos de cada OGM (caso por caso) el plazo para resolver puede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longarse indefinidament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. A mayor información solicitada, mayor tiempo para evaluar y mayor tiempo para resolv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seguridad jurídica para los particular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soluciones impugnabl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280" y="31561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 ley de bioseguridad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647800"/>
            <a:ext cx="2361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666880" y="2647800"/>
            <a:ext cx="457200" cy="1067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666880" y="3714840"/>
            <a:ext cx="457200" cy="121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4952880"/>
            <a:ext cx="2361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027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5400"/>
            <a:ext cx="91440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 la GESTIÓN DEL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blecida en el 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6720" y="2438280"/>
            <a:ext cx="335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 Partes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ablecerán y mantendrán mecanismos, medidas y estrategias adecuadas para regular, gestionar y controlar los riesg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terminados con arreglo a las disposiciones sobre evaluación del riesgo del presente Protocolo…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179360"/>
            <a:ext cx="350532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3040" y="1271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1262160"/>
            <a:ext cx="350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in ley de bioseguridad de OG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2362320"/>
            <a:ext cx="36576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Protocolo no establece mecanismos y medidas especificas o particulares de gestión de riesgos. Reservado a los Estados signa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oni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inspección y vigil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edidas correctivas o de urgente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e garantiza una protección efectiva a la biod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ugnación de med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676520"/>
            <a:ext cx="609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17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ación de Identificación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59092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Ms destinados a uso directo como alimento humano o animal, o para procesamiento, identifica claramente que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eden llegar a conten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 OV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9144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acuerdo con e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10191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da parte adoptará las medidas para requerir que la documentación que acompañ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11430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388620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Ms destinados para uso confinado 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ines de enseñanza, investigación, industriales o comercial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s identifica claramen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mo OV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4880" y="4896000"/>
            <a:ext cx="4800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Ms destinados para su liberación al ambient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s identifica claramen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mo OVMs, especifica la identidad y los rasgos/características, requisitos para manipulación, almacenamiento, transporte y uso segu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8487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2670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67080" y="2514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0866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133360" y="2362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429000" y="3695760"/>
            <a:ext cx="5638680" cy="1600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5372280"/>
            <a:ext cx="5638680" cy="12571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9000" y="2362320"/>
            <a:ext cx="5638680" cy="1257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990720"/>
            <a:ext cx="5638680" cy="1257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 de las disposiciones sobre Identificación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9907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 LEY DE BIOSEGURIDAD DE O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1371600"/>
            <a:ext cx="320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43480" y="1220760"/>
            <a:ext cx="5524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nerará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rios problema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 cargamentos o embarques d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ductos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ue se importen a granel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qu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 contengan OGM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sible umbral cer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5398920"/>
            <a:ext cx="55245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n una regulación clara y armónica se puede incurrir e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violación de reglas de comercio internacion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ontenidas en tratados y acuerdos internacionales de los que México es parte: TLC, TLCUE y OM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fectación del comercio transfronteriz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3843360"/>
            <a:ext cx="5715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 falta de precisión puede ocasionar interpretaciones laxas o excesivas que puede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encarecer las cadenas productiva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y propiciar la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érdida de competitivida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en los mercados nacional e internacion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 perjudicará a los consumid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las economías sectoriales y al paí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7" idx="3"/>
            <a:endCxn id="484" idx="1"/>
          </p:cNvCxnSpPr>
          <p:nvPr/>
        </p:nvCxnSpPr>
        <p:spPr>
          <a:xfrm>
            <a:off x="2590920" y="1494000"/>
            <a:ext cx="838800" cy="1260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7" idx="2"/>
            <a:endCxn id="483" idx="1"/>
          </p:cNvCxnSpPr>
          <p:nvPr/>
        </p:nvCxnSpPr>
        <p:spPr>
          <a:xfrm flipH="1" rot="16200000">
            <a:off x="1883160" y="1445760"/>
            <a:ext cx="994680" cy="209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87" idx="2"/>
            <a:endCxn id="481" idx="1"/>
          </p:cNvCxnSpPr>
          <p:nvPr/>
        </p:nvCxnSpPr>
        <p:spPr>
          <a:xfrm flipH="1" rot="16200000">
            <a:off x="1130760" y="2198160"/>
            <a:ext cx="2499480" cy="209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7" idx="2"/>
            <a:endCxn id="482" idx="1"/>
          </p:cNvCxnSpPr>
          <p:nvPr/>
        </p:nvCxnSpPr>
        <p:spPr>
          <a:xfrm flipH="1" rot="16200000">
            <a:off x="378360" y="2950920"/>
            <a:ext cx="4004640" cy="209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3581280" y="2610000"/>
            <a:ext cx="533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se establecen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toridades competent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ni las bases legales para la expedición de normas específicas que regulen el contenido de la documentación de identificación de OG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ntros Focale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0400" y="2630520"/>
            <a:ext cx="35244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da Parte designará un centro focal nacional que será responsable del enlace con la secretaría en su nombr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da parte también designará una o más autoridades nacionales competentes que se encargarán de las funciones administrativas requeridas por el presente Protocolo…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1371600"/>
            <a:ext cx="358128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3960" y="146376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86440" y="2687760"/>
            <a:ext cx="352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e establece una autoridad mexicana que cumpla con la función señalada en el Protocolo, con atribuciones específicas para realizar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86440" y="4287960"/>
            <a:ext cx="352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e designan autoridades que tengan atribuciones específicas, de acuerdo con el marco jurídico nacional, para ejecutar las disposiciones del Protoc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1392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 CONTAR CON LEY DE BIOSEGURIDAD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240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503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676520" y="762120"/>
            <a:ext cx="7086600" cy="190476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71560" y="961920"/>
            <a:ext cx="6915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ROTOCOLO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: “…Las Partes, de conformidad con sus leyes y reglamentaciones respectivas, celebrarán consultas con el público en el proceso de adopción de decisiones en relación con OVM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320" y="4038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no contar con ley de bioseguridad de OG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43400" y="3591000"/>
            <a:ext cx="48006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se podrá hacer efectiva la participación soci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se establecen reglas y bases para realizar las consultas públic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se precisan los alcances de la participación social en los procesos de decis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504960" y="4610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05320" y="3809520"/>
            <a:ext cx="1009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86240" y="461016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507" idx="2"/>
            <a:endCxn id="511" idx="0"/>
          </p:cNvCxnSpPr>
          <p:nvPr/>
        </p:nvCxnSpPr>
        <p:spPr>
          <a:xfrm rot="5400000">
            <a:off x="2875680" y="1695240"/>
            <a:ext cx="1372320" cy="33152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entes del Protocolo de Cartage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36720"/>
            <a:ext cx="45720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grama de las Naciones U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 el Medio Ambient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743040"/>
            <a:ext cx="5029200" cy="1143000"/>
          </a:xfrm>
          <a:prstGeom prst="ellips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078440"/>
            <a:ext cx="2471760" cy="576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362320"/>
            <a:ext cx="3657600" cy="116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VENIO SOBR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89520" y="4030560"/>
            <a:ext cx="3125880" cy="1483200"/>
          </a:xfrm>
          <a:prstGeom prst="flowChartAlternateProcess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ovechamiento de recursos gen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3429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429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0880" y="5164200"/>
            <a:ext cx="4352760" cy="1464120"/>
          </a:xfrm>
          <a:prstGeom prst="roundRect">
            <a:avLst>
              <a:gd name="adj" fmla="val 17606"/>
            </a:avLst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OCOL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 CARTAGENA SOBRE LA SEGURIDAD DE LA BIO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362320"/>
            <a:ext cx="365760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LARACIÓN DE RÍO SOBRE MEDIO AMBIENTE Y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7052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819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9" idx="6"/>
            <a:endCxn id="51" idx="0"/>
          </p:cNvCxnSpPr>
          <p:nvPr/>
        </p:nvCxnSpPr>
        <p:spPr>
          <a:xfrm>
            <a:off x="5499000" y="1314000"/>
            <a:ext cx="750240" cy="1048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1430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9436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80" y="1539720"/>
            <a:ext cx="27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762120"/>
            <a:ext cx="601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da Part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optará las medidas nacionales adecuad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ncaminadas a prevenir y, si procede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naliz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 movimientos transfronterizos de OVMs realizado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 contravención de las medidas nacionales que rigen la aplicación del presente Protoco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17960" y="2451240"/>
            <a:ext cx="601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arte afectada podrá exigir a la Parte de origen que retire a sus expensas el OVM de que se trat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patriándo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truyéndo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según proceda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8120" y="7621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1981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40" y="1390680"/>
            <a:ext cx="2590560" cy="1123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3657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480" y="48006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 CON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 LEY DE BIOSEGURIDAD DE O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2743200"/>
            <a:ext cx="1447920" cy="1676520"/>
          </a:xfrm>
          <a:prstGeom prst="downArrow">
            <a:avLst>
              <a:gd name="adj1" fmla="val 50000"/>
              <a:gd name="adj2" fmla="val 28947"/>
            </a:avLst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05000" y="3657600"/>
            <a:ext cx="603900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o se establecen responsabilidades específicas por infracciones al Protocolo (administrativas y/o penales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o se establece gradualidad en la aplicación de sanciones (infracciones leves o graves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o existen mecanismos y procedimientos para exigir la repatriación o destrucción de OGM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o podrán aplicarse sanciones si no se determinan las conductas que constituyen algún (os) tipo (s) de responsabilidad (es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Monotype Sort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eterminaciones impugnabl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pretación y aplicación discre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" y="74304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APLICARSE 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RECTAMENTE POR LAS AUTORIDADES MEXIC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320" y="2438280"/>
            <a:ext cx="533376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mplio margen de discrecionalida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 interpretar el Protocol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 solicitar informació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 aplicar sus instrumentos,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 resolver solicitud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72200" y="3060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pego al Estado de Der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76800" y="4181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segur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72200" y="50292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reno al desarrollo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05520" y="2133720"/>
            <a:ext cx="3657600" cy="4419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483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" y="2209680"/>
            <a:ext cx="41911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066680" y="838080"/>
            <a:ext cx="66294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5257800"/>
            <a:ext cx="1600200" cy="762120"/>
          </a:xfrm>
          <a:prstGeom prst="ellipse">
            <a:avLst/>
          </a:prstGeom>
          <a:solidFill>
            <a:srgbClr val="c4cbd4"/>
          </a:solidFill>
          <a:ln w="9360">
            <a:solidFill>
              <a:srgbClr val="c4cbd4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1320" y="5257800"/>
            <a:ext cx="1600200" cy="762120"/>
          </a:xfrm>
          <a:prstGeom prst="ellipse">
            <a:avLst/>
          </a:prstGeom>
          <a:solidFill>
            <a:srgbClr val="c4cbd4"/>
          </a:solidFill>
          <a:ln w="9360">
            <a:solidFill>
              <a:srgbClr val="c4cbd4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81280" y="5257800"/>
            <a:ext cx="1600200" cy="762120"/>
          </a:xfrm>
          <a:prstGeom prst="ellipse">
            <a:avLst/>
          </a:prstGeom>
          <a:solidFill>
            <a:srgbClr val="c4cbd4"/>
          </a:solidFill>
          <a:ln w="9360">
            <a:solidFill>
              <a:srgbClr val="c4cbd4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ectación a relaciones comerciale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93024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licación direc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l Protocolo por las Autoridades Mexic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5376600">
            <a:off x="2894040" y="2359080"/>
            <a:ext cx="2743200" cy="21333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2209680"/>
            <a:ext cx="2209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ble violación a tratados y acuerdos internacionales en ma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541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L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00200" y="541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L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610320" y="2629080"/>
            <a:ext cx="192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reras técnicas no arancel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2514600"/>
            <a:ext cx="2057400" cy="1600200"/>
          </a:xfrm>
          <a:prstGeom prst="roundRect">
            <a:avLst>
              <a:gd name="adj" fmla="val 19644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Objetivo de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684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..Contribuir 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garantizar un nivel adecuado de protección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la esfera de la transferencia, manipulación y utilización seguras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e los organismos vivos modificado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resultantes de la biotecnología modern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que puedan tener efectos adversos par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la conservación y la utilización sostenible de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diversidad biológic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, teniendo también en cuenta los riesgos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ra la salud human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, céntrandose concretamente en los movimientos transfronterizo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incipales obligaciones  establecidas en el Proto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447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da Parte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omará las medidas legislativa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dministrativas y de otro tipo necesarias y convenientes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ra cumplir sus obligaciones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imanantes del presente Protocolo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657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“…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s Partes velarán porque el desarrollo, la manipulación, el transporte, la utilización, la transferencia y la liberación de cualesquiera organismos vivos modificados se realicen de forma que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 eviten o reduzcan los riesgos para la diversidad biológic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, teniendo también en cuenta los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iesgos para la salud human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1050840"/>
            <a:ext cx="807696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ahoma"/>
              </a:rPr>
              <a:t>Aplic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Movimientos transfronterizos intencionales de OVMs destinados a la introducción deliberada en el medio ambiente (por ejemplo, semillas para siembra, peces para liberación y microorganismos para biorremediac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Importación de OVMs destinados para uso directo como alimento humano o animal, o para procesamiento (por ejemplo, granos como maíz y soya 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”c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ommodities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ánsito, manipulación y utilización de OVMs que puedan tener efectos adversos para la conservación y utilización sostenible de la diversidad biológ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ahoma"/>
              </a:rPr>
              <a:t>No Aplic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A productos farmacéuticos de uso humano que ya estén contemplados en otros acuerdos u organizaciones internacionales pertinent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OVMs en tránsito a un tercer país, en relación con el procedimiento de acuerdo fundamentado previ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OVMs destinados a uso confinado (por ejemplo, en frascos y con fines de investigación científica) respecto del procedimiento del acuerdo fundamentado previ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OVMs que han sido declarados seguros por la conferencia de las Partes signatarias del Protoco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ahoma"/>
              </a:rPr>
              <a:t>Medidas de Contro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Movimiento transfronterizo intencional de OVMs destinados a la introducción deliberada en el medio amb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Acuerdo Fundamentado Previo. (incluyendo 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la evaluación del riesgo del anexo III del Protocol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Importación de OVMs destinados para uso directo como alimento humano o animal, o para proces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forme sobre la evaluación del riesgo (anexo III del Protocol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990720"/>
            <a:ext cx="8305920" cy="16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871720"/>
            <a:ext cx="830592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853160"/>
            <a:ext cx="8305920" cy="15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Tahoma"/>
              </a:rPr>
              <a:t>Protocolo de Cartagena sobre la Seguridad de la Biotecnolog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62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4100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Ámbito de aplicación de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28600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OVIMIENTO TRANSFRONTERI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04812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Tráns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80988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anip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Uti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1460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09880" y="365724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809880" y="3657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2767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1840" y="36194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3281400"/>
            <a:ext cx="149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RGAN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V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ODIF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53400" y="262908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fectos adversos 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la diversidad bio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53400" y="415296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Riesgos para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hu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515280" y="28951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15280" y="36576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36194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316224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05440" y="2971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Ámbito de aplicación del Protocolo de Carta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198108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Tráns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274320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anip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350532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Uti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9336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595600"/>
            <a:ext cx="149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RGAN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V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ODIF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22096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297144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080" y="57150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s para que los Países signatarios legislen sobre est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7432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NO ACUE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FUNDAMENTADO PREV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760" y="5638680"/>
            <a:ext cx="86104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962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962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7:20:00Z</dcterms:created>
  <dc:creator/>
  <dc:description/>
  <dc:language>en-US</dc:language>
  <cp:lastModifiedBy>GAE_1</cp:lastModifiedBy>
  <cp:lastPrinted>2003-06-19T23:40:56Z</cp:lastPrinted>
  <dcterms:modified xsi:type="dcterms:W3CDTF">2003-06-26T16:19:50Z</dcterms:modified>
  <cp:revision>227</cp:revision>
  <dc:subject/>
  <dc:title>Sin título de diapositiva</dc:title>
</cp:coreProperties>
</file>