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C4D1-54C7-4F67-BCAE-DA4EFAE5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894A-746F-42E0-896C-51F1D143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F3BB-2925-4C74-BA19-10267C0E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5F3-0C5D-4875-B0F4-3DF2AE06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B57-7955-4560-B431-DA762FFB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80A6-AAAF-42F5-8AD8-D7FB9021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2B6A-D93B-4635-B517-DF3BF2C5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2F80-6C76-4BAD-BBC8-8232AEA1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FF59-58BB-415B-BD68-75C3F28E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F4FC-222E-4EF7-903B-B0E6D4B7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BC7D-9DD3-4611-B763-36929D65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435-433B-41D6-B799-90F1D0B7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6629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66C7-27D7-47BB-AA07-03388E9EF8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80" y="1467000"/>
            <a:ext cx="891540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ahoma"/>
              </a:rPr>
              <a:t>INICIATIVA DE LEY DE BIOSEGURIDAD DE ORGANISMOS GENÉTICAMENTE MODIFIC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Aprobada por el Senado de la República el 24 de abril de 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s-MX" sz="3600" spc="-1" strike="noStrike">
                <a:solidFill>
                  <a:srgbClr val="000000"/>
                </a:solidFill>
                <a:latin typeface="Tahoma"/>
              </a:rPr>
              <a:t>Presentación esquematizada</a:t>
            </a:r>
            <a:r>
              <a:rPr b="0" lang="es-MX" sz="36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15000" y="6094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Mayo,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6A89-C8E4-487F-8C5E-3543B1275B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77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gulación vigente en México: Proble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5400" y="1127160"/>
            <a:ext cx="899136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La legislación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stá dispers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n ordenamientos desvinculados (salud, agropecuario y ambiental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s incomplet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pues regula aspectos de actividades aisladas (investigación o experimentación) y no tiene una estructura sistemá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s imprecis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ya que contiene conceptos ambiguos y confu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s discrecional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en tanto que no establece procedimientos, plazos ni requisitos para la tramitación y obtención de autorizaciones y certific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5.   Es restrictiv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debido a que genera incertidumb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o ha evolucionad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lo suficiente para coincidir con los trabajos de la comunidad internacional y, en particular, con el Protocolo de Cartage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o está resuelta la distribución de competencia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ntre Secretarí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 Las disposiciones existentes </a:t>
            </a: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no reconocen explícitamente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el sustento científico y tecnológico que requiere la biosegur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AEDC-6AD0-40C6-AAD7-40F4915D91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2514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Iniciativa de Ley de Bioseguridad de OGMs:</a:t>
            </a:r>
            <a:r>
              <a:rPr b="1" lang="es-MX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Proceso de aprob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8D6B-6341-4C7E-8970-12570A44FB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1066680"/>
            <a:ext cx="914400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 12 de noviembre de 2002, se presentó ante el Pleno de la Cámara de Senadores la Iniciativa de Ley de Bioseguridad de OG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 la única iniciativa que existe en el Poder Legislativo sobre bioseguridad que se presentó por senadores (18) de todas las fracciones parlamentarias (PRI, PAN, PRD, PVEM y PC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RO DE CONSULT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12 de noviembre de 2002 al 07 de febrero de 2003. Participaron legisladores, dependencias del Ejecutivo Federal, investigadores, académicos, industria, O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763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ANTECEDE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7B85-7482-4875-A7C4-8866D38A0B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763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FORO DE CONSULTA DE LA INICIATI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66760" y="838080"/>
            <a:ext cx="8534520" cy="2438640"/>
            <a:chOff x="266760" y="838080"/>
            <a:chExt cx="8534520" cy="2438640"/>
          </a:xfrm>
        </p:grpSpPr>
        <p:sp>
          <p:nvSpPr>
            <p:cNvPr id="256" name=""/>
            <p:cNvSpPr/>
            <p:nvPr/>
          </p:nvSpPr>
          <p:spPr>
            <a:xfrm>
              <a:off x="304920" y="914400"/>
              <a:ext cx="84582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6760" y="838080"/>
              <a:ext cx="8534520" cy="2438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9040" y="1219320"/>
              <a:ext cx="8001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3080" y="914400"/>
              <a:ext cx="41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echa de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icio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el Foro de Consulta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10160" y="914400"/>
              <a:ext cx="419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2 de noviembre de 20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3080" y="1447920"/>
              <a:ext cx="41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echa de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ierre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el Foro de Consulta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10160" y="1447920"/>
              <a:ext cx="419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7 de febrero de 20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3080" y="1981080"/>
              <a:ext cx="4190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ntida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de consulta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n el periodo de duración del Foro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10160" y="2076480"/>
              <a:ext cx="419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4,18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3080" y="2762280"/>
              <a:ext cx="41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Promedio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de consulta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por día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10160" y="2762280"/>
              <a:ext cx="419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61.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6760" y="1371600"/>
              <a:ext cx="853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6760" y="1905120"/>
              <a:ext cx="853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6760" y="2590920"/>
              <a:ext cx="853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05200" y="838080"/>
              <a:ext cx="0" cy="243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66760" y="3886200"/>
            <a:ext cx="8534520" cy="2590920"/>
            <a:chOff x="266760" y="3886200"/>
            <a:chExt cx="8534520" cy="2590920"/>
          </a:xfrm>
        </p:grpSpPr>
        <p:sp>
          <p:nvSpPr>
            <p:cNvPr id="272" name=""/>
            <p:cNvSpPr/>
            <p:nvPr/>
          </p:nvSpPr>
          <p:spPr>
            <a:xfrm>
              <a:off x="266760" y="3886200"/>
              <a:ext cx="853452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9040" y="4286160"/>
              <a:ext cx="8001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80880" y="3962520"/>
              <a:ext cx="419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GOBIER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67360" y="3962520"/>
              <a:ext cx="156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,5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3080" y="4495680"/>
              <a:ext cx="41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ICIATIVA PRIV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47920" y="503568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NG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9040" y="5600880"/>
              <a:ext cx="415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CADÉMICOS E INVESTIGADO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66760" y="4419720"/>
              <a:ext cx="853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760" y="4952880"/>
              <a:ext cx="853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6760" y="5486400"/>
              <a:ext cx="853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24280" y="388620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24760" y="3962520"/>
              <a:ext cx="156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4.68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48280" y="4495680"/>
              <a:ext cx="156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,6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05680" y="4495680"/>
              <a:ext cx="156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5.39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48280" y="5029200"/>
              <a:ext cx="156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,4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05680" y="5029200"/>
              <a:ext cx="156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.32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29200" y="5562720"/>
              <a:ext cx="156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,6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86600" y="5562720"/>
              <a:ext cx="156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9.6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81680" y="388620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43360" y="6477120"/>
              <a:ext cx="403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29200" y="6095880"/>
              <a:ext cx="156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4,18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10280" y="6095880"/>
              <a:ext cx="156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.0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801280" y="388620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0" y="3562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0E94-411E-4EF6-B630-7714930927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763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BSERVACIONES RELEVANT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 LA INICIATIVA DE LBOGMs DERIVADAS DEL FORO DE CONSULTA POR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320" y="838080"/>
            <a:ext cx="8907480" cy="40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938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INICIATIVA DE LBOGMs Y PROTOCOLO DE CARTAGEN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938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COMPATIBILIDAD CON LOS COMPROMISOS DERIVADOS DE LA OM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938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ENFOQUE PRECAUTORI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938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EXPORTACIÓN DE OG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938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ETIQUET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938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PARTICIPACIÓN SOCIAL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938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PARTICIPACIÓN DE LOS GOBIERNOS DE LAS ENTIDADES FEDERATIV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DELIMITACIÓN DE ATRIBUCIONES Y FACULTADES DE LA SHC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PRECISIÓN DE FACULTADES DE SAGARPA Y SEMARN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320" y="4813200"/>
            <a:ext cx="906768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50000"/>
              </a:lnSpc>
              <a:spcBef>
                <a:spcPts val="938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AUTORIZACIÓN SANITARIA DEL OGM, PREVIO A EXPEDIR PERMISOS DE LIBERACIÓN  AL AMBIENTE  (EXPERIMENTAL Y EN PROGRAMA PILO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UTILIZACIÓN CONFINADA Y LIBERACIÓN AL AMBIENTE DE OGMs EN ÁREAS NATURALES PROTEGID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MEDIDAS DE SEGURIDAD Y DE URGENTE APLICA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2477-88B9-4990-B931-8F90349BAA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1440000"/>
            <a:ext cx="914400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l 24 de abril de 2003 el Senado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probó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el Dictamen a la Iniciativ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87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votos a favor,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votos en contra, y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abstencio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l 28 de abril de 2003 se remitió la Minuta proyecto de Decreto a la Cámara de Diputad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l 30 de abril de 2003 la Mesa Directiva de la Cámara de Diputados turnó la Minuta proyecto de Decreto a las Comisiones Unidas de Medio Ambiente y Recursos Naturales, de Agricultura y Ganadería, y de Ciencia y Tecnología, para su estudio y dictaminac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763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APROBACIÓN DE LA INICIATI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C822-8466-4D35-A25A-9456220A1A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066680" y="25750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Contenido general de la Iniciativa aprobada por el Senado de la Repúbl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A541-D42F-4C32-ADDA-ED8106AFB5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763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CONTENIDO DE LA INICIATI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224784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2 TÍTU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60768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27 Artícu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1120" y="6095880"/>
            <a:ext cx="45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2 Artículos Transitor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743040"/>
            <a:ext cx="4552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1°.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DISPOSICIONES GENERALE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: Objeto, Principios, Competencias, Coordinación y Fomento de la investig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2°.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ERMISOS PARA LIBERACIÓN AL AMBIENTE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3°.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UTILIZACIÓN CONFINADA Y AVIS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4°.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ZONAS RESTRINGIDAS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entros de origen y de diversidad genética y áreas naturales protegid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5°.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ROTECCIÓN DE LA SALUD HUMA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6°.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ETIQUETADO E IDENTIFICACIÓN DE OG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7°.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STAS DE OG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8°.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INFORMACIÓN SOBRE BIOSEGURIDAD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stema Nacional de Información sobre Bioseguridad y Registro Nacional de Bioseguridad de los OG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9°.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NORMAS OFICIALES MEXICAN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10°.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INSPECCIÓN Y VIGILANCIA Y MEDIDAS DE  SEGURIDAD O DE URGENTE APLIC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11°.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INFRACCIONES, SANCIONES Y RESPONSABILIDAD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12°.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RECURSO DE REVIS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0" name=""/>
          <p:cNvCxnSpPr>
            <a:stCxn id="306" idx="1"/>
            <a:endCxn id="307" idx="1"/>
          </p:cNvCxnSpPr>
          <p:nvPr/>
        </p:nvCxnSpPr>
        <p:spPr>
          <a:xfrm flipH="1" flipV="1" rot="10800000">
            <a:off x="609480" y="2567520"/>
            <a:ext cx="76680" cy="3723480"/>
          </a:xfrm>
          <a:prstGeom prst="bentConnector3">
            <a:avLst>
              <a:gd name="adj1" fmla="val -301415"/>
            </a:avLst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311" name=""/>
          <p:cNvCxnSpPr>
            <a:stCxn id="306" idx="2"/>
            <a:endCxn id="308" idx="0"/>
          </p:cNvCxnSpPr>
          <p:nvPr/>
        </p:nvCxnSpPr>
        <p:spPr>
          <a:xfrm flipH="1" rot="16200000">
            <a:off x="2835360" y="2453760"/>
            <a:ext cx="3207240" cy="4077360"/>
          </a:xfrm>
          <a:prstGeom prst="bentConnector3">
            <a:avLst>
              <a:gd name="adj1" fmla="val 91524"/>
            </a:avLst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4572000" y="762120"/>
            <a:ext cx="0" cy="4876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9880" y="251460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D69-6D4E-4221-A233-25AA36A516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514600"/>
            <a:ext cx="914400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Exposición esquemática de la Iniciativa aprobada por l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Cámara de Senad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4144-9889-42B8-A0B7-5508FA60BB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3124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ahoma"/>
              </a:rPr>
              <a:t>4.1. </a:t>
            </a: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Aspectos bás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7A8-EA23-40D2-A619-CAD2055FEC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81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Í N D I C 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3520"/>
            <a:ext cx="914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tecedentes de la Inici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iciativa de Ley de Bioseguridad de OGMs: Proceso de aprob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ntenido general de la Iniciativa aprobada por el Senado de la Re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xposición esquemática de la Iniciativa aprobada por la Cámara de Senad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114640"/>
            <a:ext cx="89154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.1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Aspectos bás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.2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Principios en Materia de Biosegur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.3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El enfoque de preca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.4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Compe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.5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Coordin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.6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Mecanismos de particip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.7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Fomento a la investig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.8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Liberación de OGMs al medio amb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.9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Utilización confinada de OG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.10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Zonas restring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.11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Comercialización de OG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.12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Etiquetado e Identificación de OG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.13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Información sobre Bioseguridad de OG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.14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Inspección y vigilancia y Medidas de seguridad o de urgente ap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.15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Responsabil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281F-BC01-4B2F-87C5-0D7B6CAB0A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574560" y="1828800"/>
            <a:ext cx="22100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914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Bio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7360" y="188748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Organismos Genéticamente Modifi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371600"/>
            <a:ext cx="762120" cy="380880"/>
          </a:xfrm>
          <a:prstGeom prst="downArrow">
            <a:avLst>
              <a:gd name="adj1" fmla="val 50000"/>
              <a:gd name="adj2" fmla="val 47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22860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05320" y="1447920"/>
            <a:ext cx="563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Organismo viv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, con excepción de los seres humanos, que ha adquirido un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ombinación genética novedos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, con capacidad de replicarse, obtenidos de la aplicación de técnicas de l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biotecnología modern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19440" y="5622840"/>
            <a:ext cx="52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EFINICIÓN CONGRUENTE con la establecida en el </a:t>
            </a: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Protocolo de Cartag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DEFINICIÓN BÁSICA DE OG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7621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72240" y="3828960"/>
            <a:ext cx="838080" cy="1600200"/>
          </a:xfrm>
          <a:prstGeom prst="downArrow">
            <a:avLst>
              <a:gd name="adj1" fmla="val 50000"/>
              <a:gd name="adj2" fmla="val 914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81280" y="5562720"/>
            <a:ext cx="5334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1B68-FF1D-4593-A164-34DBB0C19B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7620120" y="6186600"/>
            <a:ext cx="1371600" cy="26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27840" y="6186600"/>
            <a:ext cx="1371600" cy="26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19920" y="5711760"/>
            <a:ext cx="1371600" cy="2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19920" y="5307120"/>
            <a:ext cx="1371600" cy="26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81680" y="1584360"/>
            <a:ext cx="3048120" cy="37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24680" y="1108080"/>
            <a:ext cx="2590560" cy="33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77120" y="679320"/>
            <a:ext cx="2098440" cy="311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spectos Bás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347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1360" y="11397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Fi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681520" y="2495520"/>
            <a:ext cx="185760" cy="2286000"/>
          </a:xfrm>
          <a:custGeom>
            <a:avLst/>
            <a:gdLst>
              <a:gd name="textAreaLeft" fmla="*/ 118800 w 185760"/>
              <a:gd name="textAreaRight" fmla="*/ 186120 w 1857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720"/>
                </a:lnTo>
                <a:cubicBezTo>
                  <a:pt x="10800" y="10620"/>
                  <a:pt x="5400" y="11520"/>
                  <a:pt x="0" y="11520"/>
                </a:cubicBezTo>
                <a:cubicBezTo>
                  <a:pt x="5400" y="11520"/>
                  <a:pt x="10800" y="12420"/>
                  <a:pt x="10800" y="133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5842080" y="2514600"/>
            <a:ext cx="2414520" cy="276480"/>
            <a:chOff x="5842080" y="2514600"/>
            <a:chExt cx="2414520" cy="276480"/>
          </a:xfrm>
        </p:grpSpPr>
        <p:sp>
          <p:nvSpPr>
            <p:cNvPr id="339" name=""/>
            <p:cNvSpPr/>
            <p:nvPr/>
          </p:nvSpPr>
          <p:spPr>
            <a:xfrm>
              <a:off x="5972040" y="2547720"/>
              <a:ext cx="205704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42080" y="2514600"/>
              <a:ext cx="241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ahoma"/>
                </a:rPr>
                <a:t>Utilización confina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676520" y="3705120"/>
            <a:ext cx="3962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57400" y="3503520"/>
            <a:ext cx="327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Regular actividades con OG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000160" y="1444680"/>
            <a:ext cx="356256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74760" y="911160"/>
            <a:ext cx="312444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tección de bienes públicos evitando o reduciendo los posibles riesgos que estas actividades pudieran ocasiona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805360" y="1619280"/>
            <a:ext cx="324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Medio ambiente</a:t>
            </a:r>
            <a:r>
              <a:rPr b="1" lang="es-MX" sz="1200" spc="-1" strike="noStrike">
                <a:solidFill>
                  <a:srgbClr val="000000"/>
                </a:solidFill>
                <a:latin typeface="Tahoma"/>
              </a:rPr>
              <a:t> y d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iversidad biológ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13400" y="68256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alud hum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81520" y="685800"/>
            <a:ext cx="135000" cy="1523880"/>
          </a:xfrm>
          <a:custGeom>
            <a:avLst/>
            <a:gdLst>
              <a:gd name="textAreaLeft" fmla="*/ 86400 w 135000"/>
              <a:gd name="textAreaRight" fmla="*/ 135360 w 1350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6240" y="5618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05560" y="5084640"/>
            <a:ext cx="171360" cy="1544760"/>
          </a:xfrm>
          <a:custGeom>
            <a:avLst/>
            <a:gdLst>
              <a:gd name="textAreaLeft" fmla="*/ 109440 w 171360"/>
              <a:gd name="textAreaRight" fmla="*/ 171720 w 171360"/>
              <a:gd name="textAreaTop" fmla="*/ 39960 h 1544760"/>
              <a:gd name="textAreaBottom" fmla="*/ 1504800 h 15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46920" y="533556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gríco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0120" y="5307120"/>
            <a:ext cx="1371600" cy="26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37400" y="5729400"/>
            <a:ext cx="137160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72320" y="5334120"/>
            <a:ext cx="13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ecuar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0120" y="577836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Biorremedi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19920" y="62056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Forest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6080" y="62164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Cualquier o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64200" y="5722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ndust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" y="5335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872320" y="1135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</a:rPr>
              <a:t>Sanidad animal, vegetal y acuíco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972040" y="2862360"/>
            <a:ext cx="205740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67280" y="2819520"/>
            <a:ext cx="2286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ahoma"/>
              </a:rPr>
              <a:t>Liberación experim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824440" y="3505320"/>
            <a:ext cx="2449440" cy="276480"/>
            <a:chOff x="5824440" y="3505320"/>
            <a:chExt cx="2449440" cy="276480"/>
          </a:xfrm>
        </p:grpSpPr>
        <p:sp>
          <p:nvSpPr>
            <p:cNvPr id="363" name=""/>
            <p:cNvSpPr/>
            <p:nvPr/>
          </p:nvSpPr>
          <p:spPr>
            <a:xfrm>
              <a:off x="5972040" y="3529080"/>
              <a:ext cx="20574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24440" y="3505320"/>
              <a:ext cx="244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ahoma"/>
                </a:rPr>
                <a:t>Liberación comerc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776920" y="4114800"/>
            <a:ext cx="2449440" cy="276480"/>
            <a:chOff x="5776920" y="4114800"/>
            <a:chExt cx="2449440" cy="276480"/>
          </a:xfrm>
        </p:grpSpPr>
        <p:sp>
          <p:nvSpPr>
            <p:cNvPr id="366" name=""/>
            <p:cNvSpPr/>
            <p:nvPr/>
          </p:nvSpPr>
          <p:spPr>
            <a:xfrm>
              <a:off x="5972040" y="4141800"/>
              <a:ext cx="20574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76920" y="4114800"/>
              <a:ext cx="244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ahoma"/>
                </a:rPr>
                <a:t>Impor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815080" y="3809880"/>
            <a:ext cx="2449440" cy="276480"/>
            <a:chOff x="5815080" y="3809880"/>
            <a:chExt cx="2449440" cy="276480"/>
          </a:xfrm>
        </p:grpSpPr>
        <p:sp>
          <p:nvSpPr>
            <p:cNvPr id="369" name=""/>
            <p:cNvSpPr/>
            <p:nvPr/>
          </p:nvSpPr>
          <p:spPr>
            <a:xfrm>
              <a:off x="5972040" y="3838680"/>
              <a:ext cx="205704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15080" y="3809880"/>
              <a:ext cx="244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ahoma"/>
                </a:rPr>
                <a:t>Comerci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371600" y="5861160"/>
            <a:ext cx="4114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43600" y="3165480"/>
            <a:ext cx="2514600" cy="2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943600" y="3143160"/>
            <a:ext cx="2548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ahoma"/>
              </a:rPr>
              <a:t>Liberación en programa pil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772240" y="4419720"/>
            <a:ext cx="2449440" cy="276480"/>
            <a:chOff x="5772240" y="4419720"/>
            <a:chExt cx="2449440" cy="276480"/>
          </a:xfrm>
        </p:grpSpPr>
        <p:sp>
          <p:nvSpPr>
            <p:cNvPr id="375" name=""/>
            <p:cNvSpPr/>
            <p:nvPr/>
          </p:nvSpPr>
          <p:spPr>
            <a:xfrm>
              <a:off x="5967360" y="4446720"/>
              <a:ext cx="20574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72240" y="4419720"/>
              <a:ext cx="244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ahoma"/>
                </a:rPr>
                <a:t>Expor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B3B1-1C8E-4C57-A963-4283D2AADB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5791320" y="5715000"/>
            <a:ext cx="26096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411480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91320" y="2343240"/>
            <a:ext cx="236196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91320" y="988920"/>
            <a:ext cx="2361960" cy="112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66760" y="21276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Exclusiones y Remisión a Ordenamientos Especializ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" y="7621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78040" y="958680"/>
            <a:ext cx="2130120" cy="10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32040" y="979560"/>
            <a:ext cx="204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LECTA   Y APROVECHAMIENTO DE  RECURSOS BIOLÓG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72240" y="1138320"/>
            <a:ext cx="247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y General del Equilibrio Ecológico y la Protección al 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790560" y="2473200"/>
            <a:ext cx="2305080" cy="955800"/>
            <a:chOff x="790560" y="2473200"/>
            <a:chExt cx="2305080" cy="955800"/>
          </a:xfrm>
        </p:grpSpPr>
        <p:sp>
          <p:nvSpPr>
            <p:cNvPr id="387" name=""/>
            <p:cNvSpPr/>
            <p:nvPr/>
          </p:nvSpPr>
          <p:spPr>
            <a:xfrm>
              <a:off x="858960" y="2473200"/>
              <a:ext cx="2130120" cy="95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0560" y="2668680"/>
              <a:ext cx="23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PROPIEDAD  INTELECT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791320" y="2438280"/>
            <a:ext cx="23619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y de la Propiedad Intele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y Federal de Variedades Vege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27400" y="2682720"/>
            <a:ext cx="978120" cy="596880"/>
          </a:xfrm>
          <a:prstGeom prst="rightArrow">
            <a:avLst>
              <a:gd name="adj1" fmla="val 50000"/>
              <a:gd name="adj2" fmla="val 4096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27400" y="1219320"/>
            <a:ext cx="978120" cy="596880"/>
          </a:xfrm>
          <a:prstGeom prst="rightArrow">
            <a:avLst>
              <a:gd name="adj1" fmla="val 50000"/>
              <a:gd name="adj2" fmla="val 4096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33520" y="4038480"/>
            <a:ext cx="2819160" cy="955440"/>
            <a:chOff x="533520" y="4038480"/>
            <a:chExt cx="2819160" cy="955440"/>
          </a:xfrm>
        </p:grpSpPr>
        <p:sp>
          <p:nvSpPr>
            <p:cNvPr id="393" name=""/>
            <p:cNvSpPr/>
            <p:nvPr/>
          </p:nvSpPr>
          <p:spPr>
            <a:xfrm>
              <a:off x="533520" y="4038480"/>
              <a:ext cx="2819160" cy="9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5800" y="4201920"/>
              <a:ext cx="2590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ahoma"/>
                </a:rPr>
                <a:t>PRODUCCIÓN Y PROCESO DE MEDICAMENTOS Y FÁRMAC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5562720" y="4173480"/>
            <a:ext cx="27432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ey General de Sal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ey Federal de Sanidad Animal (veterinar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21280" y="4203720"/>
            <a:ext cx="977760" cy="596880"/>
          </a:xfrm>
          <a:prstGeom prst="rightArrow">
            <a:avLst>
              <a:gd name="adj1" fmla="val 50000"/>
              <a:gd name="adj2" fmla="val 409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04920" y="5334120"/>
            <a:ext cx="3276360" cy="1303200"/>
            <a:chOff x="304920" y="5334120"/>
            <a:chExt cx="3276360" cy="1303200"/>
          </a:xfrm>
        </p:grpSpPr>
        <p:sp>
          <p:nvSpPr>
            <p:cNvPr id="398" name=""/>
            <p:cNvSpPr/>
            <p:nvPr/>
          </p:nvSpPr>
          <p:spPr>
            <a:xfrm>
              <a:off x="304920" y="5334120"/>
              <a:ext cx="3276360" cy="130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2280" y="5411880"/>
              <a:ext cx="31240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ahoma"/>
                </a:rPr>
                <a:t>GENOMA HUMANO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Tahoma"/>
                </a:rPr>
                <a:t>CLONACIÓN DE CÉLULAS TRONCALES O MADRE DE SERES HUMANOS Y LA BIOSEGURIDAD DE HOSPIT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4121280" y="5727600"/>
            <a:ext cx="977760" cy="596880"/>
          </a:xfrm>
          <a:prstGeom prst="rightArrow">
            <a:avLst>
              <a:gd name="adj1" fmla="val 50000"/>
              <a:gd name="adj2" fmla="val 409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72240" y="58672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ey General de Salu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1081-AF69-4236-8969-FD0CF1BACC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04920" y="95400"/>
            <a:ext cx="845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Tahoma"/>
              </a:rPr>
              <a:t>OGMs y Produc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95480" y="1206360"/>
            <a:ext cx="624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OGMs o productos que contienen algún o algunos OGMs en su composición, para comercializ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320" y="2995560"/>
            <a:ext cx="223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PRODUCTOS DERIV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133720" y="2971800"/>
            <a:ext cx="701028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Son aquellos en los que hubieren intervenido OGMs como insumos en su proceso de producción, incluyendo sus extractos, siempre que no contengan en su composición para su comercialización OGMs vivos y que, por ello, no tienen la capacidad de transferir o replicar su material genétic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Se sujetan al control sanitario de todos los productos para uso o consumo humano, establecido en la Ley General de Salud y sus reglament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320" y="11430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PRODUCTOS QUE CONTENGAN OG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118728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33720" y="3011400"/>
            <a:ext cx="0" cy="323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" y="7621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BD37-9A52-47A1-AFB0-7BB49A6FF7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28954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ahoma"/>
              </a:rPr>
              <a:t>4.2. </a:t>
            </a: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Principios en materia de Biosegur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0A35-E701-4261-8C4F-46CA6F249C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41904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PRINCIPIOS EN MATERIA DE BIO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29080" y="3112920"/>
            <a:ext cx="464796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IOSEGURID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 OG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114800" y="914400"/>
            <a:ext cx="144792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alu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y monitore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 ries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177200">
            <a:off x="143280" y="1581120"/>
            <a:ext cx="25225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alu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so por ca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9569000">
            <a:off x="6662880" y="171432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étodo Paso a pa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1512400">
            <a:off x="-380520" y="3428640"/>
            <a:ext cx="3504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ustento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ientífico y tecnológ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2043000">
            <a:off x="6341760" y="5283000"/>
            <a:ext cx="3048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bservancia de acuerd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 tratados interna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05320" y="609480"/>
            <a:ext cx="2666880" cy="182880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276720" y="4648320"/>
            <a:ext cx="3047760" cy="1828800"/>
          </a:xfrm>
          <a:prstGeom prst="up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9419000">
            <a:off x="6622920" y="1274400"/>
            <a:ext cx="2506680" cy="1219320"/>
          </a:xfrm>
          <a:prstGeom prst="leftArrow">
            <a:avLst>
              <a:gd name="adj1" fmla="val 50000"/>
              <a:gd name="adj2" fmla="val 51395"/>
            </a:avLst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18000">
            <a:off x="3939840" y="4952520"/>
            <a:ext cx="175248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fo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Preca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2093400">
            <a:off x="6474960" y="4844880"/>
            <a:ext cx="2660760" cy="1427400"/>
          </a:xfrm>
          <a:prstGeom prst="leftArrow">
            <a:avLst>
              <a:gd name="adj1" fmla="val 50000"/>
              <a:gd name="adj2" fmla="val 46602"/>
            </a:avLst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21528600">
            <a:off x="25200" y="2971440"/>
            <a:ext cx="2946240" cy="1444680"/>
          </a:xfrm>
          <a:prstGeom prst="rightArrow">
            <a:avLst>
              <a:gd name="adj1" fmla="val 50000"/>
              <a:gd name="adj2" fmla="val 50984"/>
            </a:avLst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1153200">
            <a:off x="39240" y="1257480"/>
            <a:ext cx="3008520" cy="1371600"/>
          </a:xfrm>
          <a:prstGeom prst="rightArrow">
            <a:avLst>
              <a:gd name="adj1" fmla="val 50000"/>
              <a:gd name="adj2" fmla="val 54836"/>
            </a:avLst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09960" y="2610000"/>
            <a:ext cx="3809880" cy="190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20134800">
            <a:off x="-124920" y="53766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nsulta 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20010000">
            <a:off x="330120" y="4724280"/>
            <a:ext cx="2946600" cy="1444680"/>
          </a:xfrm>
          <a:prstGeom prst="rightArrow">
            <a:avLst>
              <a:gd name="adj1" fmla="val 50000"/>
              <a:gd name="adj2" fmla="val 50991"/>
            </a:avLst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6000">
            <a:off x="7238880" y="34858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ord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0824000">
            <a:off x="6857640" y="2963880"/>
            <a:ext cx="2133720" cy="1371600"/>
          </a:xfrm>
          <a:prstGeom prst="rightArrow">
            <a:avLst>
              <a:gd name="adj1" fmla="val 50000"/>
              <a:gd name="adj2" fmla="val 38891"/>
            </a:avLst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E01-2F2D-4A29-8949-AF348ED144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3200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ahoma"/>
              </a:rPr>
              <a:t>4.3. </a:t>
            </a: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El enfoque de precau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591A-71F1-499A-80F5-6EA9C24844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EL ENFOQUE DE PRECAU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85760" y="1371600"/>
            <a:ext cx="28195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eclaración de Río sobre el Medio Ambiente y el Desarroll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685800"/>
            <a:ext cx="3276360" cy="2286000"/>
          </a:xfrm>
          <a:prstGeom prst="flowChartInternalStorag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257480" y="72396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ncipio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53160" y="1346040"/>
            <a:ext cx="25146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onvenio sobre la Diversidad Biológic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3733920"/>
            <a:ext cx="3276360" cy="2361960"/>
          </a:xfrm>
          <a:prstGeom prst="bevel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15000" y="4226040"/>
            <a:ext cx="2514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Protocolo de Cartagena sobre la Seguridad de la Biotecnolog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09880" y="1752480"/>
            <a:ext cx="15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934320" y="29718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34120" y="685800"/>
            <a:ext cx="3276360" cy="228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5029200" y="3200400"/>
            <a:ext cx="0" cy="3657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0" y="3200400"/>
            <a:ext cx="50292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5028840" y="4952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33720" y="2971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3276720"/>
            <a:ext cx="5029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rincipio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 el fin de proteger el medio ambiente, los Estados deberán aplicar ampliamente el criterio de precaución conforme a sus capacidades. Cuando haya peligro de daño grave o irreversible, la falta de certeza científica absoluta no deberá utilizarse como razón para postergar la adopción de medidas eficaces en función de los costos para impedir la degradación del medio amb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B389-6A2A-45F3-9684-A13CFC69B3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Continuación EL ENFOQUE 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533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¿Cómo se desarrolla en la Iniciativa el enfoque de precau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320" y="1600200"/>
            <a:ext cx="906768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tivo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 la biosegur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rincipi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n Materia de Biosegur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riteri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 resolver permisos de liberación de OGMs al medio amb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Monotype Sort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riteri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 resolver autorizaciones sanitarias de OG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Monotype Sorts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eamient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 evaluar los posibles riesgos a la biodiversidad y a la salud hum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Monotype Sorts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riteri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plicable en caso de incertidumbre del nivel de los posibles riesgos o de afectaciones negativas a la diversidad biológica y la salud hum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Monotype Sorts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 que SEMARNAT, SAGARPA y SSA ordenen y apliquen medidas de seguridad o de urgente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5C65-1EDF-4ABF-BF36-F60C480388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0" y="31845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ahoma"/>
              </a:rPr>
              <a:t>4.4. </a:t>
            </a: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Competenc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57B-5C25-4136-A058-0A6645A95C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089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Antecedentes de la Iniciati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C0A-0AF5-456D-8AAE-CCC75A2758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65280" y="7632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Tahoma"/>
              </a:rPr>
              <a:t>Competenci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pendencias con competencia en bioseguridad de OG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3108240"/>
            <a:ext cx="5105520" cy="459720"/>
            <a:chOff x="914400" y="3108240"/>
            <a:chExt cx="5105520" cy="459720"/>
          </a:xfrm>
        </p:grpSpPr>
        <p:sp>
          <p:nvSpPr>
            <p:cNvPr id="457" name=""/>
            <p:cNvSpPr/>
            <p:nvPr/>
          </p:nvSpPr>
          <p:spPr>
            <a:xfrm>
              <a:off x="914400" y="3108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717560" y="3336840"/>
              <a:ext cx="148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05320" y="3108240"/>
              <a:ext cx="251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895320" y="2209680"/>
            <a:ext cx="7924680" cy="825480"/>
            <a:chOff x="895320" y="2209680"/>
            <a:chExt cx="7924680" cy="825480"/>
          </a:xfrm>
        </p:grpSpPr>
        <p:sp>
          <p:nvSpPr>
            <p:cNvPr id="461" name=""/>
            <p:cNvSpPr/>
            <p:nvPr/>
          </p:nvSpPr>
          <p:spPr>
            <a:xfrm>
              <a:off x="895320" y="22096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Arial"/>
                </a:rPr>
                <a:t>SAGARP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71840" y="2438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86240" y="2209680"/>
              <a:ext cx="5333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Protección de la sanidad animal, vegetal y acuíco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914400" y="1295280"/>
            <a:ext cx="8229600" cy="825480"/>
            <a:chOff x="914400" y="1295280"/>
            <a:chExt cx="8229600" cy="825480"/>
          </a:xfrm>
        </p:grpSpPr>
        <p:sp>
          <p:nvSpPr>
            <p:cNvPr id="465" name=""/>
            <p:cNvSpPr/>
            <p:nvPr/>
          </p:nvSpPr>
          <p:spPr>
            <a:xfrm>
              <a:off x="914400" y="12952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Arial"/>
                </a:rPr>
                <a:t>SEMARN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971800" y="1523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05320" y="1295280"/>
              <a:ext cx="5638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Protección del medio ambiente y biodivers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609480" y="3809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tras Secretarías y entidades vinculad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914400" y="49719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717560" y="5200560"/>
            <a:ext cx="148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76720" y="48769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ticipación en NOMs sobre envasado, etiquetado e identificación de OG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1440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H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33720" y="46292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276720" y="4343400"/>
            <a:ext cx="40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trol adu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914400" y="57308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ACy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90920" y="5959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76720" y="573084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porte científico de la bioseguridad y desarrollo de la bio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05320" y="31240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tección de la salud hu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5BE-71F2-4C5F-A890-0A71A3BB495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979560" y="38160"/>
            <a:ext cx="716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Tahoma"/>
              </a:rPr>
              <a:t>Distribución de Competenci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080" y="762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SEMAR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6320" y="35053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SAGAR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19240" y="685800"/>
            <a:ext cx="7124760" cy="27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Tahoma"/>
              </a:rPr>
              <a:t>Facultades respecto de todos los OGMs, excepto los que son competencia de SAGARP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Tahoma"/>
              </a:rPr>
              <a:t>En caso en que corresponda a la SAGARPA expedir el permiso de liberación de OGMs al ambiente, le corresponderá a SEMARNAT emitir dictamen de bioseguridad en relación al medio ambiente y a la biodiversidad, que será vinculant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onitoreo e inspección y vigilanc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81080" y="3352680"/>
            <a:ext cx="7162920" cy="31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Permisos y avisos en cuanto a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Vegetales que sean especies agrícolas, incluyendo semill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Animales que se consideren especies ganader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Insumos fitozoosanitarios y de nutrición animal y veget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OGMs para inmunización de animal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Especies pesqueras y acuicolas.</a:t>
            </a:r>
            <a:r>
              <a:rPr b="0" lang="es-MX" sz="1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981080" y="774720"/>
            <a:ext cx="0" cy="21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81080" y="3429000"/>
            <a:ext cx="0" cy="320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81080" y="6248520"/>
            <a:ext cx="7162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Monitoreo e inspección y vigilanc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E36-AB7A-4F6C-A07A-9532DA96895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914400" y="762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981080" y="785880"/>
            <a:ext cx="71629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xpedición de las autorizaciones de OGMs para uso o consumo humano o para finalidades de salud pública, para su comercialización e importación para su comercial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ol sanitario y vigilancia epidemiológica conforme a la Ley General de Sal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981080" y="777960"/>
            <a:ext cx="0" cy="20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6212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SH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376440"/>
            <a:ext cx="716292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acultades de revisión en las aduanas que los OGMs que se importen cuenten con permiso y/o autorización sanita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acultades de revisión de requisitos que deba contener la documentación que acompañe a los OGMs que se importen al paí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mpedir la entrada al teritorio nacional de OGMs y productos que no cuenten con permiso y/o autorización sanitaria para su impor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3368520"/>
            <a:ext cx="0" cy="288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79560" y="38160"/>
            <a:ext cx="716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Tahoma"/>
              </a:rPr>
              <a:t>Distribución de Competenci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AF48-A2C3-4C32-A132-6678E11E596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2895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ahoma"/>
              </a:rPr>
              <a:t>4.5. </a:t>
            </a: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Coordin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CB5-4EF4-4DE7-A61A-F56CB68EE4D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4390920" y="2438280"/>
            <a:ext cx="28800" cy="358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73440" y="3352680"/>
            <a:ext cx="32763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523880" y="5486400"/>
            <a:ext cx="259092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913120" y="4267080"/>
            <a:ext cx="2895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514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79560" y="-34920"/>
            <a:ext cx="716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Tahoma"/>
              </a:rPr>
              <a:t>Coordinación Intersecretar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06800" y="762120"/>
            <a:ext cx="25905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335400" y="990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IBIO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19600" y="2305080"/>
            <a:ext cx="3041640" cy="94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680080" y="2820960"/>
            <a:ext cx="2971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Director General del CONACy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73520" y="4370400"/>
            <a:ext cx="29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omité Téc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755800" y="34290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Secretario Ej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00800" y="4114800"/>
            <a:ext cx="259092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77120" y="415296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Mecanismos de Participación por sec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422600" y="277812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985000" y="24382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Vicepresid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170160" y="20098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SIDENC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13520" y="838080"/>
            <a:ext cx="1143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GAR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MAR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47000" y="838080"/>
            <a:ext cx="1143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ACy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94480" y="12193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32600" y="83808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60640" y="160020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AGARP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55920" y="160020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EMARNAT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712880" y="2620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SA      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55640" y="207648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otatori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84520" y="222876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17840" y="2019240"/>
            <a:ext cx="1066680" cy="381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617840" y="1828800"/>
            <a:ext cx="2286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532240" y="1828440"/>
            <a:ext cx="3045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151000" y="24004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724280" y="5486400"/>
            <a:ext cx="259092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381560" y="17524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724280" y="5524560"/>
            <a:ext cx="25146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Consejo Consul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Mix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23880" y="552780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Consejo Consultivo Cient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191120" y="601992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2" name=""/>
          <p:cNvCxnSpPr>
            <a:stCxn id="508" idx="3"/>
            <a:endCxn id="509" idx="0"/>
          </p:cNvCxnSpPr>
          <p:nvPr/>
        </p:nvCxnSpPr>
        <p:spPr>
          <a:xfrm>
            <a:off x="6108480" y="3657600"/>
            <a:ext cx="1587960" cy="457920"/>
          </a:xfrm>
          <a:prstGeom prst="bentConnector2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5BEF-0EE5-43FD-9872-A96026EB287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Tahoma"/>
              </a:rPr>
              <a:t>Coordinación con Entidades Federativ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52280" y="914400"/>
            <a:ext cx="2133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deració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MAR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GAR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00800" y="1289160"/>
            <a:ext cx="27432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Gobiernos   Entidades Federativ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571840" y="138744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cuerdos o convenios de coord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280" y="762120"/>
            <a:ext cx="2057400" cy="2361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515280" y="838080"/>
            <a:ext cx="2514600" cy="198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391000" y="510552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ciones de vigilancia del cumplimiento de la 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72200" y="1828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286000" y="1828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54348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 B J E T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4724280"/>
            <a:ext cx="3353040" cy="167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47640" y="4724280"/>
            <a:ext cx="3353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laboración concurrente en monitoreo de riesgos en actividades de liberación de OGMs al 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34120" y="4724280"/>
            <a:ext cx="3352680" cy="167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0" y="22096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>
            <a:stCxn id="543" idx="2"/>
            <a:endCxn id="545" idx="0"/>
          </p:cNvCxnSpPr>
          <p:nvPr/>
        </p:nvCxnSpPr>
        <p:spPr>
          <a:xfrm rot="5400000">
            <a:off x="2876040" y="3028680"/>
            <a:ext cx="1143720" cy="22485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43" idx="2"/>
            <a:endCxn id="546" idx="0"/>
          </p:cNvCxnSpPr>
          <p:nvPr/>
        </p:nvCxnSpPr>
        <p:spPr>
          <a:xfrm flipH="1" rot="16200000">
            <a:off x="5223240" y="2928600"/>
            <a:ext cx="1134360" cy="2439000"/>
          </a:xfrm>
          <a:prstGeom prst="bentConnector3">
            <a:avLst>
              <a:gd name="adj1" fmla="val 50412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0572-80A4-42B8-999D-94D530E6901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2895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ahoma"/>
              </a:rPr>
              <a:t>4.6. </a:t>
            </a: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Mecanismos de particip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FA0-D6DD-4BAD-AD24-391891B13C5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5562720" y="1219320"/>
            <a:ext cx="3276360" cy="31240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49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-572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Mecanismos de participa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-152280" y="533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NIVEL DE COORD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28600" y="2895480"/>
            <a:ext cx="2209680" cy="1371600"/>
          </a:xfrm>
          <a:prstGeom prst="rect">
            <a:avLst/>
          </a:prstGeom>
          <a:noFill/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14480" y="28764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EJO CONSULTIVO MIX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95480" y="2876400"/>
            <a:ext cx="2210040" cy="1371600"/>
          </a:xfrm>
          <a:prstGeom prst="rect">
            <a:avLst/>
          </a:prstGeom>
          <a:noFill/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800440" y="2800440"/>
            <a:ext cx="2438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glas de Operación: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ecanismos de participa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990720" y="1450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 I B I O G E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54" idx="2"/>
            <a:endCxn id="559" idx="0"/>
          </p:cNvCxnSpPr>
          <p:nvPr/>
        </p:nvCxnSpPr>
        <p:spPr>
          <a:xfrm>
            <a:off x="2590560" y="990720"/>
            <a:ext cx="1080" cy="460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61" name=""/>
          <p:cNvSpPr/>
          <p:nvPr/>
        </p:nvSpPr>
        <p:spPr>
          <a:xfrm>
            <a:off x="76320" y="449568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LAS DECISIONES DE LAS SECRETARÍAS COMPE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10120" y="5257800"/>
            <a:ext cx="4191120" cy="17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Solicitudes de permisos de liberación de OGMs al amb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Gobiernos de las entidades federativa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ualquier perso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66720" y="6019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ulta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28600" y="5943600"/>
            <a:ext cx="4572000" cy="609480"/>
          </a:xfrm>
          <a:prstGeom prst="ellipse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61" idx="2"/>
            <a:endCxn id="564" idx="0"/>
          </p:cNvCxnSpPr>
          <p:nvPr/>
        </p:nvCxnSpPr>
        <p:spPr>
          <a:xfrm>
            <a:off x="2514240" y="5318280"/>
            <a:ext cx="1080" cy="606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6" name=""/>
          <p:cNvCxnSpPr/>
          <p:nvPr/>
        </p:nvCxnSpPr>
        <p:spPr>
          <a:xfrm flipV="1">
            <a:off x="4800240" y="5866560"/>
            <a:ext cx="191160" cy="389880"/>
          </a:xfrm>
          <a:prstGeom prst="bentConnector3">
            <a:avLst>
              <a:gd name="adj1" fmla="val 44905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59" idx="1"/>
          </p:cNvCxnSpPr>
          <p:nvPr/>
        </p:nvCxnSpPr>
        <p:spPr>
          <a:xfrm flipH="1" flipV="1" rot="10800000">
            <a:off x="990360" y="1678320"/>
            <a:ext cx="381600" cy="1064520"/>
          </a:xfrm>
          <a:prstGeom prst="bentConnector4">
            <a:avLst>
              <a:gd name="adj1" fmla="val -59962"/>
              <a:gd name="adj2" fmla="val 6072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8" name=""/>
          <p:cNvCxnSpPr>
            <a:stCxn id="559" idx="3"/>
          </p:cNvCxnSpPr>
          <p:nvPr/>
        </p:nvCxnSpPr>
        <p:spPr>
          <a:xfrm>
            <a:off x="4191120" y="1679040"/>
            <a:ext cx="2160" cy="988200"/>
          </a:xfrm>
          <a:prstGeom prst="bentConnector4">
            <a:avLst>
              <a:gd name="adj1" fmla="val 14400000"/>
              <a:gd name="adj2" fmla="val 6155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9" name=""/>
          <p:cNvSpPr/>
          <p:nvPr/>
        </p:nvSpPr>
        <p:spPr>
          <a:xfrm>
            <a:off x="4991040" y="5257800"/>
            <a:ext cx="4191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991040" y="5257800"/>
            <a:ext cx="0" cy="160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10080" y="1295280"/>
            <a:ext cx="3657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so a la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stema Nacional de Bio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stro Nacional de Bioseguridad de los OG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 rot="5400000">
            <a:off x="5796360" y="3502800"/>
            <a:ext cx="598680" cy="228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0"/>
            <a:endCxn id="554" idx="3"/>
          </p:cNvCxnSpPr>
          <p:nvPr/>
        </p:nvCxnSpPr>
        <p:spPr>
          <a:xfrm flipV="1" rot="16200000">
            <a:off x="6038640" y="56520"/>
            <a:ext cx="457920" cy="18676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4" name=""/>
          <p:cNvSpPr/>
          <p:nvPr/>
        </p:nvSpPr>
        <p:spPr>
          <a:xfrm>
            <a:off x="7238880" y="4876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A3F-C3F4-4865-AD79-175E91024EF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Consulta públ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2280" y="762120"/>
            <a:ext cx="312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licitud de permis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 liberación de OGM al 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52280" y="762120"/>
            <a:ext cx="3124440" cy="1143000"/>
          </a:xfrm>
          <a:prstGeom prst="flowChartOffpageConnec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47640" y="2971800"/>
            <a:ext cx="2057400" cy="1447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76240" y="3048120"/>
            <a:ext cx="1600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RN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GAR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76520" y="19051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2514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gres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895480" y="4572000"/>
            <a:ext cx="1981440" cy="198108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971800" y="4572000"/>
            <a:ext cx="1828800" cy="20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GISTRO NACIONAL DE BIOSEGURIDAD DE LOS OG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scripción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de la solicit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ublicida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de la solicit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5" name=""/>
          <p:cNvCxnSpPr>
            <a:stCxn id="579" idx="2"/>
          </p:cNvCxnSpPr>
          <p:nvPr/>
        </p:nvCxnSpPr>
        <p:spPr>
          <a:xfrm flipH="1" rot="16200000">
            <a:off x="1640520" y="4464000"/>
            <a:ext cx="1276920" cy="1207080"/>
          </a:xfrm>
          <a:prstGeom prst="bentConnector3">
            <a:avLst>
              <a:gd name="adj1" fmla="val 9850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228600" y="48006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misión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1828800"/>
            <a:ext cx="2362320" cy="2362320"/>
          </a:xfrm>
          <a:prstGeom prst="flowChartMultidocumen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52920" y="179064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dios de comun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05240" y="20034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14800" y="22320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114800" y="2514600"/>
            <a:ext cx="198108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 pone a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 DISPOSICIÓN DEL PÚBLICO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a solicitud de permis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3200" y="3505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828800" y="1981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752480" y="1981080"/>
            <a:ext cx="38124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47680" y="44197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52280" y="4419720"/>
            <a:ext cx="38124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600360" y="2819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505320" y="2819520"/>
            <a:ext cx="38088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934320" y="1371600"/>
            <a:ext cx="213336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OPINIONES D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ualquier pers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obiernos de las entidades federativa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en las que se pretende liberar el OG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52960" y="251460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29400" y="1143000"/>
            <a:ext cx="243828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"/>
          <p:cNvCxnSpPr>
            <a:stCxn id="601" idx="4"/>
            <a:endCxn id="587" idx="2"/>
          </p:cNvCxnSpPr>
          <p:nvPr/>
        </p:nvCxnSpPr>
        <p:spPr>
          <a:xfrm rot="5400000">
            <a:off x="6055560" y="2220840"/>
            <a:ext cx="1032840" cy="2553120"/>
          </a:xfrm>
          <a:prstGeom prst="bentConnector3">
            <a:avLst>
              <a:gd name="adj1" fmla="val 1393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3" name=""/>
          <p:cNvSpPr/>
          <p:nvPr/>
        </p:nvSpPr>
        <p:spPr>
          <a:xfrm>
            <a:off x="8248680" y="32767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153280" y="3276720"/>
            <a:ext cx="38124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410080" y="405756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lazo de 20 días háb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324480" y="4876920"/>
            <a:ext cx="259092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7" name=""/>
          <p:cNvCxnSpPr>
            <a:endCxn id="606" idx="1"/>
          </p:cNvCxnSpPr>
          <p:nvPr/>
        </p:nvCxnSpPr>
        <p:spPr>
          <a:xfrm flipH="1" rot="16200000">
            <a:off x="4909320" y="4300200"/>
            <a:ext cx="1486440" cy="12675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8" name=""/>
          <p:cNvSpPr/>
          <p:nvPr/>
        </p:nvSpPr>
        <p:spPr>
          <a:xfrm>
            <a:off x="5353200" y="5791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257800" y="5791320"/>
            <a:ext cx="38088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15080" y="514980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Resolución de la solicit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438960" y="4991040"/>
            <a:ext cx="2362320" cy="15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EMARNAT o SAGARPA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deberán considerar las opiniones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en caso de que proceda otorgar el permi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Establecimiento de medidas de biosegur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6540-D0BF-4028-818B-61B07655705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303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ahoma"/>
              </a:rPr>
              <a:t>4.7. </a:t>
            </a: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Fomento a la investig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8284-8E23-457A-8021-33D20B148DF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23960" y="4759200"/>
            <a:ext cx="5105520" cy="516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58128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2560" y="2305080"/>
            <a:ext cx="510552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2560" y="1390680"/>
            <a:ext cx="5105520" cy="336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1400" y="571680"/>
            <a:ext cx="510552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908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MARCO DE REFERENCIA PARA LA INICIATIVA DE LEY DE BIOSEGURIDAD DE ORGANISMOS GENÉTICAMENTE MODIFI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2286000"/>
            <a:ext cx="2590920" cy="228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00280" y="933480"/>
            <a:ext cx="3765240" cy="474840"/>
            <a:chOff x="800280" y="933480"/>
            <a:chExt cx="3765240" cy="474840"/>
          </a:xfrm>
        </p:grpSpPr>
        <p:sp>
          <p:nvSpPr>
            <p:cNvPr id="56" name=""/>
            <p:cNvSpPr/>
            <p:nvPr/>
          </p:nvSpPr>
          <p:spPr>
            <a:xfrm>
              <a:off x="800280" y="933480"/>
              <a:ext cx="376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MX" sz="1000" spc="-1" strike="noStrike">
                  <a:solidFill>
                    <a:srgbClr val="000000"/>
                  </a:solidFill>
                  <a:latin typeface="Tahoma"/>
                </a:rPr>
                <a:t>Tratados y fo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1720" y="1162080"/>
              <a:ext cx="376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MX" sz="1000" spc="-1" strike="noStrike">
                  <a:solidFill>
                    <a:srgbClr val="000000"/>
                  </a:solidFill>
                  <a:latin typeface="Tahoma"/>
                </a:rPr>
                <a:t>Regulación vigente en Méxi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808200" y="1809720"/>
            <a:ext cx="3763800" cy="509760"/>
            <a:chOff x="808200" y="1809720"/>
            <a:chExt cx="3763800" cy="509760"/>
          </a:xfrm>
        </p:grpSpPr>
        <p:sp>
          <p:nvSpPr>
            <p:cNvPr id="59" name=""/>
            <p:cNvSpPr/>
            <p:nvPr/>
          </p:nvSpPr>
          <p:spPr>
            <a:xfrm>
              <a:off x="808200" y="1809720"/>
              <a:ext cx="376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MX" sz="1000" spc="-1" strike="noStrike">
                  <a:solidFill>
                    <a:srgbClr val="000000"/>
                  </a:solidFill>
                  <a:latin typeface="Tahoma"/>
                </a:rPr>
                <a:t>Países megadivers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08200" y="2073240"/>
              <a:ext cx="376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MX" sz="1000" spc="-1" strike="noStrike">
                  <a:solidFill>
                    <a:srgbClr val="000000"/>
                  </a:solidFill>
                  <a:latin typeface="Tahoma"/>
                </a:rPr>
                <a:t>Países TLCAN y TLCUE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800280" y="2762280"/>
            <a:ext cx="525780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e Bioseguridad de Organismos Genéticamente Modificados (PVE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e  Bioseguridad (P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obre la Producción, Distribución, Comercialización, Control y Fomento de los Productos Transgénicos (PR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e Investigación y Desarrollo Biotecnológico y Bioseguridad (PR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640" y="3597120"/>
            <a:ext cx="51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Bases y recomendaciones para elaborar una Ley- Academia Mexicana de Ci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960" y="4724280"/>
            <a:ext cx="518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Experiencia operativa, observaciones y recomendaciones, de Secretarías, Conacyt y CIBIOG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9000" y="4191120"/>
            <a:ext cx="51818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Comité de Biotecnología Conacy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Grupos de expertos de distintas especialida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Foros académ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52560" y="5605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arco regulatorio Nacional e Interna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60480" y="1390680"/>
            <a:ext cx="45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Experiencia en otros paí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60480" y="2324160"/>
            <a:ext cx="45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Iniciativas de 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1" idx="3"/>
            <a:endCxn id="54" idx="2"/>
          </p:cNvCxnSpPr>
          <p:nvPr/>
        </p:nvCxnSpPr>
        <p:spPr>
          <a:xfrm>
            <a:off x="5776560" y="713880"/>
            <a:ext cx="624600" cy="2715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50" idx="3"/>
            <a:endCxn id="54" idx="2"/>
          </p:cNvCxnSpPr>
          <p:nvPr/>
        </p:nvCxnSpPr>
        <p:spPr>
          <a:xfrm>
            <a:off x="5788080" y="1558440"/>
            <a:ext cx="613440" cy="187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49" idx="3"/>
            <a:endCxn id="54" idx="2"/>
          </p:cNvCxnSpPr>
          <p:nvPr/>
        </p:nvCxnSpPr>
        <p:spPr>
          <a:xfrm>
            <a:off x="5788080" y="2487240"/>
            <a:ext cx="613440" cy="94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" name=""/>
          <p:cNvCxnSpPr/>
          <p:nvPr/>
        </p:nvCxnSpPr>
        <p:spPr>
          <a:xfrm flipV="1">
            <a:off x="5790960" y="3409560"/>
            <a:ext cx="610200" cy="4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63" idx="3"/>
            <a:endCxn id="54" idx="2"/>
          </p:cNvCxnSpPr>
          <p:nvPr/>
        </p:nvCxnSpPr>
        <p:spPr>
          <a:xfrm flipV="1">
            <a:off x="5905440" y="3428280"/>
            <a:ext cx="496080" cy="1554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723960" y="5468760"/>
            <a:ext cx="5105520" cy="516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5" idx="3"/>
            <a:endCxn id="54" idx="2"/>
          </p:cNvCxnSpPr>
          <p:nvPr/>
        </p:nvCxnSpPr>
        <p:spPr>
          <a:xfrm flipV="1">
            <a:off x="5905440" y="3428280"/>
            <a:ext cx="496080" cy="2297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" name=""/>
          <p:cNvSpPr/>
          <p:nvPr/>
        </p:nvSpPr>
        <p:spPr>
          <a:xfrm>
            <a:off x="723960" y="5467320"/>
            <a:ext cx="518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Iniciativa de Ley de Bioseguridad de OGMs - Senado de la República - 12 de noviembre de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440" y="6173640"/>
            <a:ext cx="6305760" cy="516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6210360"/>
            <a:ext cx="640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ahoma"/>
              </a:rPr>
              <a:t>FORO DE CONSULTA - Participación de legisladores de ambas Cámaras, dependencias del Ejecutivo Federal, investigadores, académicos, industria, ONG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943600" y="3505320"/>
            <a:ext cx="457200" cy="266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96200" y="2732040"/>
            <a:ext cx="24192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PROBACIÓ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e la Iniciativa de Ley de Bioseguridad de OGMs en el Senado de la Repúblic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7 votos a favor, 3 en contra y 2 abste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4 de abril de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5943600"/>
            <a:ext cx="2133720" cy="838080"/>
          </a:xfrm>
          <a:prstGeom prst="ellipse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34320" y="6076800"/>
            <a:ext cx="1904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 de noviembre de 2002 al 07 de febrero de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96200" y="6400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3F70-37FC-42B8-8721-DF41F53C92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52280" y="3968640"/>
            <a:ext cx="4461120" cy="247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52280" y="981000"/>
            <a:ext cx="4461120" cy="219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3520" y="64764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OMENTO A LA INVESTIGACIÓN CIENTÍFICA Y TECNOLÓGICA EN BIOSEGURIDAD Y BIOTECNOLOG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1040" y="1057320"/>
            <a:ext cx="430236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ROGRAMA PARA EL DESARROLLO DE LA BIOSEGURIDAD Y LA BIOTECNOLOGÍ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rma parte del Programa Especial de Ciencia y Tecnología (LCy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723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7200" y="4002120"/>
            <a:ext cx="38862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FONDO PARA EL FOMENTO Y APOYO A LA INVESTIGACIÓN CIENTÍFICA Y TECNOLÓGICA EN BIOSEGURIDAD Y  BIOTECNOLOG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181480" y="447048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 constituirá el CONACyT conforme a lo dispuesto en la LCy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181480" y="5445000"/>
            <a:ext cx="396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ursos fiscales, recursos de terceros e ingresos por concepto de derech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181480" y="4073400"/>
            <a:ext cx="0" cy="233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610160" y="5187960"/>
            <a:ext cx="56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1A82-900D-485F-8FAD-2D7ACDC21D4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2879640"/>
            <a:ext cx="91440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ahoma"/>
              </a:rPr>
              <a:t>4.8.</a:t>
            </a: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 Liberación de OGMs 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medio ambi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FBD8-F2D3-4B9F-846F-61D0A1F9842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2743200" y="3581280"/>
            <a:ext cx="3657600" cy="10670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76320"/>
            <a:ext cx="914400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incipio y Método que rigen 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beración al ambiente de un OG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5040" y="3703680"/>
            <a:ext cx="37339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BERACIÓN DE OG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33520" y="23623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o por c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19920" y="237636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o a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438280" y="495288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valuación de riesgos al medio ambiente y a la diversidad bi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3080" y="1676520"/>
            <a:ext cx="3200400" cy="1333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334120" y="1676520"/>
            <a:ext cx="3504960" cy="1333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4" name=""/>
          <p:cNvCxnSpPr>
            <a:stCxn id="628" idx="3"/>
            <a:endCxn id="633" idx="4"/>
          </p:cNvCxnSpPr>
          <p:nvPr/>
        </p:nvCxnSpPr>
        <p:spPr>
          <a:xfrm flipV="1">
            <a:off x="6438600" y="3028680"/>
            <a:ext cx="648360" cy="1086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5" name=""/>
          <p:cNvCxnSpPr>
            <a:stCxn id="628" idx="1"/>
            <a:endCxn id="632" idx="4"/>
          </p:cNvCxnSpPr>
          <p:nvPr/>
        </p:nvCxnSpPr>
        <p:spPr>
          <a:xfrm rot="10800000">
            <a:off x="1942560" y="3028320"/>
            <a:ext cx="762480" cy="1086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6" name=""/>
          <p:cNvSpPr/>
          <p:nvPr/>
        </p:nvSpPr>
        <p:spPr>
          <a:xfrm>
            <a:off x="5715000" y="1843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ÉT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33520" y="18288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CIP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8" name=""/>
          <p:cNvCxnSpPr>
            <a:stCxn id="625" idx="2"/>
            <a:endCxn id="631" idx="1"/>
          </p:cNvCxnSpPr>
          <p:nvPr/>
        </p:nvCxnSpPr>
        <p:spPr>
          <a:xfrm rot="5400000">
            <a:off x="3027240" y="4096440"/>
            <a:ext cx="954720" cy="2134440"/>
          </a:xfrm>
          <a:prstGeom prst="bentConnector4">
            <a:avLst>
              <a:gd name="adj1" fmla="val 11957"/>
              <a:gd name="adj2" fmla="val 110711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9" name=""/>
          <p:cNvCxnSpPr>
            <a:stCxn id="625" idx="2"/>
            <a:endCxn id="631" idx="3"/>
          </p:cNvCxnSpPr>
          <p:nvPr/>
        </p:nvCxnSpPr>
        <p:spPr>
          <a:xfrm flipH="1" rot="16200000">
            <a:off x="5199840" y="4058280"/>
            <a:ext cx="954720" cy="2210400"/>
          </a:xfrm>
          <a:prstGeom prst="bentConnector4">
            <a:avLst>
              <a:gd name="adj1" fmla="val 11957"/>
              <a:gd name="adj2" fmla="val 110327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C25-465E-44F3-8672-C736A82332A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5791320" y="3657600"/>
            <a:ext cx="2724120" cy="1066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514600" y="3657600"/>
            <a:ext cx="2838600" cy="1546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04920" y="3581280"/>
            <a:ext cx="1752480" cy="974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Principio CASO POR CAS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09480" y="13716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valuación individual de cada OG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con bases científicas y técnicas, consideran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1295280"/>
            <a:ext cx="80010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0880" y="373392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rganismo recep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924520" y="402264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Área de liberació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14600" y="4098960"/>
            <a:ext cx="281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racterísticas de la modificación gené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0880" y="5584680"/>
            <a:ext cx="285768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tecedentes sobre actividades con el OG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57840" y="5584680"/>
            <a:ext cx="369576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neficios comparados con opciones tecnológicas alter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2" name=""/>
          <p:cNvCxnSpPr>
            <a:stCxn id="646" idx="1"/>
            <a:endCxn id="650" idx="1"/>
          </p:cNvCxnSpPr>
          <p:nvPr/>
        </p:nvCxnSpPr>
        <p:spPr>
          <a:xfrm flipV="1" rot="10800000">
            <a:off x="361080" y="1865880"/>
            <a:ext cx="210600" cy="4088520"/>
          </a:xfrm>
          <a:prstGeom prst="bentConnector3">
            <a:avLst>
              <a:gd name="adj1" fmla="val 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3" name=""/>
          <p:cNvCxnSpPr>
            <a:stCxn id="646" idx="3"/>
            <a:endCxn id="651" idx="3"/>
          </p:cNvCxnSpPr>
          <p:nvPr/>
        </p:nvCxnSpPr>
        <p:spPr>
          <a:xfrm flipH="1">
            <a:off x="8571960" y="1866600"/>
            <a:ext cx="76680" cy="4088520"/>
          </a:xfrm>
          <a:prstGeom prst="bentConnector3">
            <a:avLst>
              <a:gd name="adj1" fmla="val -2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F726-A7CA-4D66-AFAC-93AC2A8D200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8160" y="609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816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Método PASO A PAS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514600" y="335268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SO 2. Liberación en programa piloto del OGM en el medio amb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66880" y="504504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SO 3. LIBERACIÓN COMERCIAL del OGM en el 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461960"/>
            <a:ext cx="5715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SO 1. Liberación experimental del OG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 el medio 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943280" y="609480"/>
            <a:ext cx="0" cy="624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876240"/>
            <a:ext cx="21337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ara que un OGM sea LIBERADO COMERCIALMENTE al medio ambiente 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debe ser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reviamente sometido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a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ruebas satisfactorias de LIBERACIÓN EXPERIMENTAL, 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ruebas satisfactorias de LIBERACIÓN EN PROGRAMA PILOTO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943280" y="3276720"/>
            <a:ext cx="37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5657760" y="213336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43280" y="4724280"/>
            <a:ext cx="37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5657760" y="419256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910-558D-40A7-AD99-B26F1FCA4FA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Evaluación de riesg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28560" y="23050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álisis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SO POR CASO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PASO A PAS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con base en estudios fundamentados científica y técnicamente, de LOS POSIBLES RIESGOS que la LIBERACIÓ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OGMs puede causar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6320" y="1790640"/>
            <a:ext cx="5257800" cy="2971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638680" y="762120"/>
            <a:ext cx="3429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600200"/>
            <a:ext cx="3429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ersidad bi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638680" y="3352680"/>
            <a:ext cx="3429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nidad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638680" y="4343400"/>
            <a:ext cx="3429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nidad veg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638680" y="5181480"/>
            <a:ext cx="3429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nidad acuíc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38680" y="2514600"/>
            <a:ext cx="3429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ud hu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4572000" y="990720"/>
            <a:ext cx="16002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5334120" y="274284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3581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52880" y="4038480"/>
            <a:ext cx="12193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343400" y="4343400"/>
            <a:ext cx="1752480" cy="98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4915080" y="1904760"/>
            <a:ext cx="9903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04920" y="5810400"/>
            <a:ext cx="556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licando el enfoque de precaución, observando los procedimientos establecidos en la Ley y los tratados y acuerdos interna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" y="5791320"/>
            <a:ext cx="5638680" cy="838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472428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292-78A5-46C2-ACF1-81187290A4E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-572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beración de OGMs agropecuarios al ambi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399960"/>
            <a:ext cx="2514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REQUISIT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562040" y="110484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o para Liberación Experim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914400" y="329580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o para Liberación en Programa Pilo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219320" y="53784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o para Liberación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19920" y="730080"/>
            <a:ext cx="327636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udio de ries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didas de biosegu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didas de monitor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ctamen favorable SEMARN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1" name=""/>
          <p:cNvCxnSpPr>
            <a:stCxn id="686" idx="2"/>
            <a:endCxn id="687" idx="1"/>
          </p:cNvCxnSpPr>
          <p:nvPr/>
        </p:nvCxnSpPr>
        <p:spPr>
          <a:xfrm flipH="1" rot="16200000">
            <a:off x="1072440" y="1087920"/>
            <a:ext cx="675360" cy="3052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6019920" y="2600280"/>
            <a:ext cx="327636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porte de resultados de la liberación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didas de biosegu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didas de monitor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ctamen favorable SEMARN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Autorización sani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791320" y="16002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19920" y="514440"/>
            <a:ext cx="0" cy="19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791320" y="3827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19920" y="2571840"/>
            <a:ext cx="0" cy="217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2476440"/>
            <a:ext cx="9144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8" name=""/>
          <p:cNvCxnSpPr>
            <a:stCxn id="686" idx="2"/>
            <a:endCxn id="688" idx="1"/>
          </p:cNvCxnSpPr>
          <p:nvPr/>
        </p:nvCxnSpPr>
        <p:spPr>
          <a:xfrm rot="5400000">
            <a:off x="-347400" y="2164320"/>
            <a:ext cx="2865960" cy="343800"/>
          </a:xfrm>
          <a:prstGeom prst="bentConnector4">
            <a:avLst>
              <a:gd name="adj1" fmla="val 41721"/>
              <a:gd name="adj2" fmla="val 2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9" name=""/>
          <p:cNvSpPr/>
          <p:nvPr/>
        </p:nvSpPr>
        <p:spPr>
          <a:xfrm>
            <a:off x="6019920" y="4800600"/>
            <a:ext cx="312408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porte de resultados de la liberación experimental y en programa pilo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diciones para su liberación y comercia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ctamen favorable SEMARN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19920" y="4952880"/>
            <a:ext cx="0" cy="19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791320" y="588636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4819680"/>
            <a:ext cx="9144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3" name=""/>
          <p:cNvCxnSpPr>
            <a:stCxn id="686" idx="2"/>
            <a:endCxn id="689" idx="1"/>
          </p:cNvCxnSpPr>
          <p:nvPr/>
        </p:nvCxnSpPr>
        <p:spPr>
          <a:xfrm rot="5400000">
            <a:off x="-1236240" y="3358080"/>
            <a:ext cx="4948920" cy="38880"/>
          </a:xfrm>
          <a:prstGeom prst="bentConnector4">
            <a:avLst>
              <a:gd name="adj1" fmla="val 45198"/>
              <a:gd name="adj2" fmla="val 7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4" name=""/>
          <p:cNvSpPr/>
          <p:nvPr/>
        </p:nvSpPr>
        <p:spPr>
          <a:xfrm>
            <a:off x="857160" y="1352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120" y="1352520"/>
            <a:ext cx="38088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71360" y="280044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320" y="2800440"/>
            <a:ext cx="38088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90400" y="51624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95360" y="5162400"/>
            <a:ext cx="38088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3720" y="209556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A G A R P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419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A G A R P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3720" y="6400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A G A R P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EB4-1043-4D47-B272-29FD059169E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057400" y="1905120"/>
            <a:ext cx="4800600" cy="1752480"/>
          </a:xfrm>
          <a:prstGeom prst="flowChartDecision">
            <a:avLst/>
          </a:prstGeom>
          <a:gradFill rotWithShape="0">
            <a:gsLst>
              <a:gs pos="0">
                <a:srgbClr val="b2b2b2"/>
              </a:gs>
              <a:gs pos="100000">
                <a:srgbClr val="dddddd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Liberación de OGMs al ambiente para biorremedia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0" y="685800"/>
            <a:ext cx="914400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OGM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BIORREMEDI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 co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FINES DE SALUD PÚB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124080" y="2271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BE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6320" y="4289400"/>
            <a:ext cx="51051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QUISITOS PARA OBTENER EL PERMISO DE LIB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Estudio de los posibles ries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Otra información: Art.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. Autorización Sanitaria del OGM que expida la 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13" idx="2"/>
            <a:endCxn id="718" idx="0"/>
          </p:cNvCxnSpPr>
          <p:nvPr/>
        </p:nvCxnSpPr>
        <p:spPr>
          <a:xfrm rot="5400000">
            <a:off x="3236400" y="3068640"/>
            <a:ext cx="613440" cy="1829520"/>
          </a:xfrm>
          <a:prstGeom prst="bentConnector3">
            <a:avLst>
              <a:gd name="adj1" fmla="val 4844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0" name=""/>
          <p:cNvSpPr/>
          <p:nvPr/>
        </p:nvSpPr>
        <p:spPr>
          <a:xfrm>
            <a:off x="4457880" y="1600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429160" y="4800600"/>
            <a:ext cx="1524240" cy="1066680"/>
          </a:xfrm>
          <a:custGeom>
            <a:avLst/>
            <a:gdLst>
              <a:gd name="textAreaLeft" fmla="*/ 237960 w 1524240"/>
              <a:gd name="textAreaRight" fmla="*/ 1225080 w 1524240"/>
              <a:gd name="textAreaTop" fmla="*/ 247680 h 1066680"/>
              <a:gd name="textAreaBottom" fmla="*/ 81900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014"/>
                </a:moveTo>
                <a:lnTo>
                  <a:pt x="13680" y="5014"/>
                </a:lnTo>
                <a:lnTo>
                  <a:pt x="13680" y="0"/>
                </a:lnTo>
                <a:lnTo>
                  <a:pt x="21600" y="10800"/>
                </a:lnTo>
                <a:lnTo>
                  <a:pt x="13680" y="21600"/>
                </a:lnTo>
                <a:lnTo>
                  <a:pt x="13680" y="16586"/>
                </a:lnTo>
                <a:lnTo>
                  <a:pt x="3375" y="16586"/>
                </a:lnTo>
                <a:close/>
              </a:path>
              <a:path w="21600" h="21600">
                <a:moveTo>
                  <a:pt x="0" y="5014"/>
                </a:moveTo>
                <a:lnTo>
                  <a:pt x="675" y="5014"/>
                </a:lnTo>
                <a:lnTo>
                  <a:pt x="675" y="16586"/>
                </a:lnTo>
                <a:lnTo>
                  <a:pt x="0" y="16586"/>
                </a:lnTo>
                <a:close/>
              </a:path>
              <a:path w="21600" h="21600">
                <a:moveTo>
                  <a:pt x="1350" y="5014"/>
                </a:moveTo>
                <a:lnTo>
                  <a:pt x="2700" y="5014"/>
                </a:lnTo>
                <a:lnTo>
                  <a:pt x="2700" y="16586"/>
                </a:lnTo>
                <a:lnTo>
                  <a:pt x="1350" y="16586"/>
                </a:lnTo>
                <a:close/>
              </a:path>
            </a:pathLst>
          </a:cu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4120" y="4267080"/>
            <a:ext cx="0" cy="2590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-360" y="4267080"/>
            <a:ext cx="53341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781680" y="4495680"/>
            <a:ext cx="2362320" cy="1905120"/>
          </a:xfrm>
          <a:custGeom>
            <a:avLst/>
            <a:gdLst>
              <a:gd name="textAreaLeft" fmla="*/ 590400 w 2362320"/>
              <a:gd name="textAreaRight" fmla="*/ 1771920 w 2362320"/>
              <a:gd name="textAreaTop" fmla="*/ 237960 h 1905120"/>
              <a:gd name="textAreaBottom" fmla="*/ 19054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372440" y="4781520"/>
            <a:ext cx="1218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MISO de liberación del OGM al 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819840" y="3900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MARN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93DD-3CE0-4B12-866B-06E8A814546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DICTAMEN VINCULANTE: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MARN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6320" y="746280"/>
            <a:ext cx="90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eración de OGMs competencia de la SAGARPA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ropecu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1981080"/>
            <a:ext cx="1828800" cy="167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28560" y="2117880"/>
            <a:ext cx="18860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LICITUD del permiso de lib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Cumplimiento de requisit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238400" y="4114800"/>
            <a:ext cx="533160" cy="609480"/>
          </a:xfrm>
          <a:prstGeom prst="plus">
            <a:avLst>
              <a:gd name="adj" fmla="val 4285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57200" y="5181480"/>
            <a:ext cx="2209680" cy="144792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76280" y="5181480"/>
            <a:ext cx="22096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utorizació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anitaria del OGM por la S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 adjunta a la solicitud del permis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43160" y="4114800"/>
            <a:ext cx="533520" cy="609480"/>
          </a:xfrm>
          <a:prstGeom prst="plus">
            <a:avLst>
              <a:gd name="adj" fmla="val 4285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62520" y="3882960"/>
            <a:ext cx="1752480" cy="106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753000" y="388296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ctamen de bioseguridad favorable de la SEMARN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28600" y="1295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torgamiento del permiso sólo 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28600" y="685800"/>
            <a:ext cx="861048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>
            <a:stCxn id="731" idx="3"/>
            <a:endCxn id="734" idx="3"/>
          </p:cNvCxnSpPr>
          <p:nvPr/>
        </p:nvCxnSpPr>
        <p:spPr>
          <a:xfrm>
            <a:off x="2514600" y="2836440"/>
            <a:ext cx="172080" cy="3064680"/>
          </a:xfrm>
          <a:prstGeom prst="bentConnector3">
            <a:avLst>
              <a:gd name="adj1" fmla="val 233333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741" name=""/>
          <p:cNvSpPr/>
          <p:nvPr/>
        </p:nvSpPr>
        <p:spPr>
          <a:xfrm>
            <a:off x="6039000" y="4114800"/>
            <a:ext cx="533160" cy="609480"/>
          </a:xfrm>
          <a:prstGeom prst="plus">
            <a:avLst>
              <a:gd name="adj" fmla="val 4285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953400" y="3886200"/>
            <a:ext cx="1847880" cy="1066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972480" y="388620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 riesgos a la sanidad animal, vegetal o acuíc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1C10-80B8-4B50-893C-95BA032B008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Importación de OGMs para su liberación al ambie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505320" y="60948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licitud con requisito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sea experimental, en programa piloto o comer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29844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QUISITOS para obtener el PERMISO DE IMPOR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505320" y="402264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utorización sanitaria que expida la SS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505320" y="211788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ue el OGM está PERMITIDO CONFORME A LA LEGISLACIÓN DEL PAÍS DE ORIGEN PARA SU LIBERACIÓ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505320" y="548964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ctamen de bioseguridad favorable de SEMARN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352680" y="68580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352680" y="365760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429000" y="8380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352680" y="4229280"/>
            <a:ext cx="228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352680" y="232416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352680" y="838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352680" y="5695920"/>
            <a:ext cx="228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C1DF-E8F4-420E-BBCD-63D0A756298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62160" y="5065560"/>
            <a:ext cx="1190520" cy="11797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65320" y="3780000"/>
            <a:ext cx="1285920" cy="1179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5200" y="3305160"/>
            <a:ext cx="1600200" cy="1182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040" y="381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ÁMBITOS JURÍD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1520" y="1643040"/>
            <a:ext cx="1879560" cy="645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PRESERVACIÓN   Y APROVECHAMIENTO DE  RECURSOS BIOLÓGIC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75160" y="1633680"/>
            <a:ext cx="1587240" cy="8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FOMENTO  DE  LA INVESTIGACIÓN CIENTÍFICA   Y   EL DESARROLLO TECNOLÓGIC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79800" y="1657440"/>
            <a:ext cx="1247760" cy="813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PROPIED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INDUSTR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1789200"/>
            <a:ext cx="1676160" cy="29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IOSEGUR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53280" y="1787400"/>
            <a:ext cx="1609560" cy="29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OCU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2386080"/>
            <a:ext cx="17524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ahoma"/>
              </a:rPr>
              <a:t>AMBIENTALES Y SALU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24480" y="2976480"/>
            <a:ext cx="1281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ROTECCIÓ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AL AMBIE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1880" y="4651200"/>
            <a:ext cx="1280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ANID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VEGE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24480" y="5565600"/>
            <a:ext cx="1281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ANID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ANIM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1880" y="2816280"/>
            <a:ext cx="12715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1880" y="4537080"/>
            <a:ext cx="12715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1880" y="5416560"/>
            <a:ext cx="12715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73640" y="2627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03920" y="4879800"/>
            <a:ext cx="2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3920" y="3159000"/>
            <a:ext cx="2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1920" y="422748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ATEN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62280" y="5427720"/>
            <a:ext cx="1247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DESARROLLO E INNOVACIÓN TECNOLÓGI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62200" y="4116240"/>
            <a:ext cx="1613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NVESTIGACIÓN CIENTÍFI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5040" y="5473800"/>
            <a:ext cx="1430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VARIEDADES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VEGETAL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9360" y="3490920"/>
            <a:ext cx="1612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OLECTA   DE RECURSOS BIOLÓGICOS  CON FINES  DE INVESTIGA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630680"/>
            <a:ext cx="1600200" cy="11797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4760" y="4818240"/>
            <a:ext cx="153036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APROVECHAMIENTO DE RECURSOS BIOLÓGICOS CON FINES DE UTILIZACIÓN EN LA BIOTECNOLOG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460680" y="3287880"/>
            <a:ext cx="1800" cy="18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63920" y="50101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460680" y="4334040"/>
            <a:ext cx="15264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473280" y="5697360"/>
            <a:ext cx="15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33200" y="3887640"/>
            <a:ext cx="15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42560" y="5245200"/>
            <a:ext cx="15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22680" y="3753000"/>
            <a:ext cx="1419120" cy="1180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18000" y="5113440"/>
            <a:ext cx="1285920" cy="1181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182920" y="2701800"/>
            <a:ext cx="990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82920" y="316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27097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3251160"/>
            <a:ext cx="0" cy="23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79640" y="559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79640" y="43797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49960" y="1130400"/>
            <a:ext cx="3504960" cy="49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IENES PÚBLICOS AMBIENTALES  Y SANITARIOS  A PRO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576440"/>
            <a:ext cx="0" cy="15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77320" y="15825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5880" y="205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91520" y="2371680"/>
            <a:ext cx="149832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ahoma"/>
              </a:rPr>
              <a:t>SALUD HUMA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88480" y="20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81880" y="3008160"/>
            <a:ext cx="1281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ALUBRIDAD GENE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9280" y="3808440"/>
            <a:ext cx="1280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ANID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VEGE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81880" y="4722840"/>
            <a:ext cx="1281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ANID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ANIM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9280" y="2816280"/>
            <a:ext cx="12715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9280" y="3693960"/>
            <a:ext cx="12715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9280" y="4570560"/>
            <a:ext cx="12715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31040" y="2627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761320" y="4873680"/>
            <a:ext cx="24300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61320" y="4037040"/>
            <a:ext cx="2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761320" y="3159000"/>
            <a:ext cx="243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013680" y="3159000"/>
            <a:ext cx="1800" cy="1735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240320" y="2701800"/>
            <a:ext cx="990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240320" y="315900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7440" y="26971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1179360"/>
            <a:ext cx="2895840" cy="29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O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665440" y="2421000"/>
            <a:ext cx="0" cy="83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979280" y="3249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1120" y="31910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3187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24480" y="3865680"/>
            <a:ext cx="1281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ALU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HUMA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23040" y="3722760"/>
            <a:ext cx="12715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46920" y="315612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5735520"/>
            <a:ext cx="24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4081320"/>
            <a:ext cx="24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066680" y="2501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67160" y="327672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406760" y="2514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1924200"/>
            <a:ext cx="2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12A-813A-49CC-B05B-E60597EF85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604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EXPORTACIÓN DE OG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762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OR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276720" y="76212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nicamente OGM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ra su liberación al ambient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otros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438280" y="990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66760" y="4419720"/>
            <a:ext cx="46670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NOTIFICACIÓN*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e la intención de exportar OGMs a las AUTORIDADES COMPETENTES DEL PAÍS RESPECTIV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0" y="6172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0" indent="-10476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TA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ólo en los casos en que los tratados internacionale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ijan ese requisit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ara efectuar la exportación al país de que se tr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971800" y="18288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ESADO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realizar la expor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334120" y="4057560"/>
            <a:ext cx="3581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 interesado realizará la notificació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OR SÍ MISM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orcionará a la autoridad competente la información que establezcan los acuerdos y tratados internacio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7" name=""/>
          <p:cNvCxnSpPr>
            <a:stCxn id="765" idx="2"/>
            <a:endCxn id="768" idx="0"/>
          </p:cNvCxnSpPr>
          <p:nvPr/>
        </p:nvCxnSpPr>
        <p:spPr>
          <a:xfrm rot="5400000">
            <a:off x="2939400" y="2301840"/>
            <a:ext cx="1588320" cy="2286720"/>
          </a:xfrm>
          <a:prstGeom prst="bentConnector3">
            <a:avLst>
              <a:gd name="adj1" fmla="val 5089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9" name=""/>
          <p:cNvSpPr/>
          <p:nvPr/>
        </p:nvSpPr>
        <p:spPr>
          <a:xfrm>
            <a:off x="5257800" y="411480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952880" y="49528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" y="4267080"/>
            <a:ext cx="4724280" cy="1371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771-2631-47E9-9374-6DC3B58BF56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0" y="3154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ahoma"/>
              </a:rPr>
              <a:t>4.9.</a:t>
            </a: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 Utilización confinada de OG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26C-984F-45E6-B0EE-2DF5E66E0EA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09480" y="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TILIZACIÓN CONFINADA DE OG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33600" y="792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V I S O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590920" y="2575080"/>
            <a:ext cx="655308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GMs con fines de investigación científica y tecnológ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ción de Comisiones Internas de Biosegur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mera utilización de laboratorios o instalaciones de enseñanza e investigación científ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ducción de OG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que se utilicen en procesos industriales, cuando los OGMs no se liberen al medio ambiente y no se destinen a uso o consumo humano o procesamiento de ali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primera utilización de instalacione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nde se produzcan los OG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320" y="152388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ando el OGM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cuen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 permiso para liberación comercial al ambien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 autorización sa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6320" y="1523880"/>
            <a:ext cx="8991360" cy="82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43578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514600" y="2666880"/>
            <a:ext cx="0" cy="396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209680" y="46483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029-EDDA-4B60-B99A-4B0B98B2303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0" y="3154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ahoma"/>
              </a:rPr>
              <a:t>4.10.</a:t>
            </a: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 Zonas restringi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813-A8BD-4734-AC47-7894D9E5FFF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266760" y="5162400"/>
            <a:ext cx="2819520" cy="119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15840"/>
            <a:ext cx="93726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ahoma"/>
              </a:rPr>
              <a:t>ZONAS RESTRINGIDA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Centros de origen y de diversidad genét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134040" y="4944960"/>
            <a:ext cx="2743200" cy="1605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267080" y="1771560"/>
            <a:ext cx="762120" cy="1371600"/>
          </a:xfrm>
          <a:prstGeom prst="downArrow">
            <a:avLst>
              <a:gd name="adj1" fmla="val 50000"/>
              <a:gd name="adj2" fmla="val 344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594240" y="1987560"/>
            <a:ext cx="20444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terminan y delimitan mediante Acuer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934320" y="1238400"/>
            <a:ext cx="1828800" cy="25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Bases de da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Información que aporten los interesados al solicitar permi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INEG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CONAB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INIF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638680" y="2163600"/>
            <a:ext cx="1295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Con base 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743200" y="3219480"/>
            <a:ext cx="3733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66760" y="5160960"/>
            <a:ext cx="2819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GMs distintos a las especies nativas, siempre que su liberación no afecte a la salud humana o a la diversidad bi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971800" y="335916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Centros de origen y de diversidad genética  de especies</a:t>
            </a:r>
            <a:r>
              <a:rPr b="0" lang="es-MX" sz="1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697360" y="200016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134040" y="4971960"/>
            <a:ext cx="27432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GMs de la misma especie a las nativas, siempre que se demuestre que no puedan intercambiar genes con éstas, o que de hacerlo no afectarán a la salud humana o a la diversidad bi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55688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657600" y="5505480"/>
            <a:ext cx="190512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7" name=""/>
          <p:cNvCxnSpPr>
            <a:stCxn id="790" idx="4"/>
            <a:endCxn id="796" idx="0"/>
          </p:cNvCxnSpPr>
          <p:nvPr/>
        </p:nvCxnSpPr>
        <p:spPr>
          <a:xfrm>
            <a:off x="4609800" y="3904920"/>
            <a:ext cx="108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3772080" y="4362480"/>
            <a:ext cx="1676160" cy="8380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740040" y="4484520"/>
            <a:ext cx="172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LIBERACION DE OGMs RESTRING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0" name=""/>
          <p:cNvCxnSpPr>
            <a:stCxn id="796" idx="1"/>
            <a:endCxn id="782" idx="3"/>
          </p:cNvCxnSpPr>
          <p:nvPr/>
        </p:nvCxnSpPr>
        <p:spPr>
          <a:xfrm flipH="1">
            <a:off x="3085560" y="5752800"/>
            <a:ext cx="57204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1" name=""/>
          <p:cNvCxnSpPr>
            <a:stCxn id="796" idx="3"/>
            <a:endCxn id="785" idx="1"/>
          </p:cNvCxnSpPr>
          <p:nvPr/>
        </p:nvCxnSpPr>
        <p:spPr>
          <a:xfrm flipV="1">
            <a:off x="5562360" y="5747760"/>
            <a:ext cx="5720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2" name=""/>
          <p:cNvSpPr/>
          <p:nvPr/>
        </p:nvSpPr>
        <p:spPr>
          <a:xfrm>
            <a:off x="2971800" y="920880"/>
            <a:ext cx="3276720" cy="622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895480" y="108576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SEMARN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906800" y="108576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SAGAR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444920" y="1085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A931-9070-4513-BDD2-5BA5FDF22F1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057400" y="714240"/>
            <a:ext cx="4648320" cy="119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6320" y="2946240"/>
            <a:ext cx="464796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servas de la biosf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arques nacion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Monumentos natu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Áreas de protección de recursos natu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Áreas de protección de flora y fauna silves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Santu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133720" y="876240"/>
            <a:ext cx="44193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e restringe la realización de actividades con OGMs en ANPs de competencia feder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495680" y="3084480"/>
            <a:ext cx="419112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Cuando aparezcan plagas o contaminantes que pudieran poner en peligro la existencia de especies animales o vegetales, y los OGMs hayan sido creados específicamente para 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evitar o combatir</a:t>
            </a: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 dicha situ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En los casos especiales y atendibles de productos específicos para la subsistencia, consumo directo y 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satisfacción de necesidades básicas</a:t>
            </a: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 de personas y comunidades que vivan dentro de esas áreas naturales protegid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0" y="-95400"/>
            <a:ext cx="9144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ahoma"/>
              </a:rPr>
              <a:t>ZONAS RESTRINGID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0000"/>
                </a:solidFill>
                <a:latin typeface="Tahoma"/>
              </a:rPr>
              <a:t>Áreas Naturales Protegid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57200" y="25909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Áreas naturales proteg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25909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xcepciones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rot="661800">
            <a:off x="2222640" y="1980720"/>
            <a:ext cx="761760" cy="532080"/>
          </a:xfrm>
          <a:prstGeom prst="downArrow">
            <a:avLst>
              <a:gd name="adj1" fmla="val 52407"/>
              <a:gd name="adj2" fmla="val 53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 rot="20112600">
            <a:off x="5834160" y="1987560"/>
            <a:ext cx="761760" cy="533520"/>
          </a:xfrm>
          <a:prstGeom prst="downArrow">
            <a:avLst>
              <a:gd name="adj1" fmla="val 46602"/>
              <a:gd name="adj2" fmla="val 467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80880" y="597204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CLARATORIAS DE CREACIÓN DE ANP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 sus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GRAMAS DE MANEJ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Lineamientos, condiciones, modalidades y limitaciones a que se sujetarán las activ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4920" y="5867280"/>
            <a:ext cx="8458200" cy="7621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495680" y="3048120"/>
            <a:ext cx="4191120" cy="243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9" name=""/>
          <p:cNvCxnSpPr>
            <a:stCxn id="818" idx="3"/>
            <a:endCxn id="817" idx="0"/>
          </p:cNvCxnSpPr>
          <p:nvPr/>
        </p:nvCxnSpPr>
        <p:spPr>
          <a:xfrm flipH="1">
            <a:off x="4533480" y="4266720"/>
            <a:ext cx="4163040" cy="1575720"/>
          </a:xfrm>
          <a:prstGeom prst="bentConnector4">
            <a:avLst>
              <a:gd name="adj1" fmla="val -5258"/>
              <a:gd name="adj2" fmla="val 8951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0" name=""/>
          <p:cNvSpPr/>
          <p:nvPr/>
        </p:nvSpPr>
        <p:spPr>
          <a:xfrm>
            <a:off x="7162920" y="106668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Utilización confi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162920" y="13255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iberación al 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05720" y="133344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238880" y="10666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B95D-81A7-49FC-85D9-7B9CC438F1F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76320" y="3048120"/>
            <a:ext cx="89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4.11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Comercialización de OGM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9D03-8E71-4625-96F8-2F0E84D915E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-19080" y="685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763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AUTORIZACIÓN DE OG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-228600" y="2911320"/>
            <a:ext cx="388620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OGM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que requieren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UTORIZACIÓ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 la SS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14800" y="190512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 uso o consumo humano, incluyendo gra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114800" y="289548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 procesamiento de alimentos para consumo hum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114800" y="38862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 finalidades de salud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114800" y="464832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 biorremedi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80988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352680" y="35812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AE69-7F13-41B5-BA1B-0D874F098BF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641520" y="5013360"/>
            <a:ext cx="8305560" cy="123516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-1908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0" y="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SUJETOS OBLIGADOS a obtener la AUTORIZACIÓN DEL OGM para su importa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736720" y="319716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interesado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en produjo y desarrolló el OG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57200" y="1773360"/>
            <a:ext cx="2438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JETOS OBLIG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 primera y ÚNIC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41520" y="5013360"/>
            <a:ext cx="83055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iene toda la información para elaborar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estudios de riesgos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a la salud humana y otros documentos que se adjuntan a la solicitud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0" name=""/>
          <p:cNvCxnSpPr>
            <a:endCxn id="837" idx="0"/>
          </p:cNvCxnSpPr>
          <p:nvPr/>
        </p:nvCxnSpPr>
        <p:spPr>
          <a:xfrm>
            <a:off x="3200400" y="2575080"/>
            <a:ext cx="2775600" cy="62280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41" name=""/>
          <p:cNvCxnSpPr>
            <a:stCxn id="837" idx="2"/>
            <a:endCxn id="834" idx="0"/>
          </p:cNvCxnSpPr>
          <p:nvPr/>
        </p:nvCxnSpPr>
        <p:spPr>
          <a:xfrm rot="5400000">
            <a:off x="4894200" y="3918240"/>
            <a:ext cx="980280" cy="1181880"/>
          </a:xfrm>
          <a:prstGeom prst="bentConnector3">
            <a:avLst>
              <a:gd name="adj1" fmla="val 50698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842" name=""/>
          <p:cNvSpPr/>
          <p:nvPr/>
        </p:nvSpPr>
        <p:spPr>
          <a:xfrm>
            <a:off x="228600" y="1508040"/>
            <a:ext cx="273672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552-B31E-43F1-A587-5A2FEF69EF7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79200"/>
            <a:ext cx="91440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IMPORTACIÓN DE OGM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PARA SU COMERCIALIZA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28600" y="17524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GMs que se importe para su comercializ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28600" y="2575080"/>
            <a:ext cx="44197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Que se destinarán directamente a su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uso o consumo humano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o para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cesamiento de alimentos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para consumo huma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Que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no se liberarán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l ambient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724280" y="2133720"/>
            <a:ext cx="4267440" cy="1904760"/>
          </a:xfrm>
          <a:prstGeom prst="leftArrowCallout">
            <a:avLst>
              <a:gd name="adj1" fmla="val 25002"/>
              <a:gd name="adj2" fmla="val 25000"/>
              <a:gd name="adj3" fmla="val 37340"/>
              <a:gd name="adj4" fmla="val 66673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91280" y="2666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RIZACIÓN SA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676520"/>
            <a:ext cx="4496040" cy="28191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819520" y="56833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 N O C U I D A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1" name=""/>
          <p:cNvCxnSpPr>
            <a:stCxn id="847" idx="0"/>
            <a:endCxn id="850" idx="3"/>
          </p:cNvCxnSpPr>
          <p:nvPr/>
        </p:nvCxnSpPr>
        <p:spPr>
          <a:xfrm rot="5400000">
            <a:off x="6435000" y="4870440"/>
            <a:ext cx="1937520" cy="3312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50" idx="1"/>
            <a:endCxn id="849" idx="2"/>
          </p:cNvCxnSpPr>
          <p:nvPr/>
        </p:nvCxnSpPr>
        <p:spPr>
          <a:xfrm rot="10800000">
            <a:off x="2399760" y="4533120"/>
            <a:ext cx="419760" cy="14709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40E4-91FD-46B1-BA55-CF58460EF79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-190440"/>
            <a:ext cx="922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ÁMBITOS DE APLICACIÓN DE LA INICIATIV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BIOTECNOLOGÍA MOD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3920" y="1214280"/>
            <a:ext cx="2374920" cy="7012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IOTECNOLOG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SALUD HUMA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754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89360" y="1076400"/>
            <a:ext cx="1962000" cy="8938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IOTECNOLOGI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GROPECUARIA, PESQUERA Y ACUÍCOL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19840" y="1066680"/>
            <a:ext cx="1941480" cy="916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IOTECNOLOG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MBIE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189160"/>
            <a:ext cx="11430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enoma Hum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Medicina Genóm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2000" y="2192400"/>
            <a:ext cx="838080" cy="89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290760"/>
            <a:ext cx="1828800" cy="29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Bioética en human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308448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34275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24080" y="3898800"/>
            <a:ext cx="1295280" cy="43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Clon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(células madr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3084480"/>
            <a:ext cx="0" cy="15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4662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3480" y="4525920"/>
            <a:ext cx="20574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oseguridad en hospi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3602160"/>
            <a:ext cx="0" cy="4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16080" y="244800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ntas y anim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92400" y="2241720"/>
            <a:ext cx="1828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3133800"/>
            <a:ext cx="1066680" cy="733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imentos con OG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68720" y="453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4356000"/>
            <a:ext cx="106668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sumos para la producción de ali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24670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orremed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2262240"/>
            <a:ext cx="1828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2036880"/>
            <a:ext cx="1800" cy="1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4638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árma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2192400"/>
            <a:ext cx="762120" cy="89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69880" y="203688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54520" y="198432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19920" y="198432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35920" y="1066680"/>
            <a:ext cx="1941480" cy="916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IOTECNOLOG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24670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38880" y="2262240"/>
            <a:ext cx="1828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3280" y="197964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94560" y="3138480"/>
            <a:ext cx="13716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in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er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93960" y="2192400"/>
            <a:ext cx="761760" cy="89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54200" y="24573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cu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65480" y="203688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2933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3390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174840" y="29332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4089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6202440"/>
            <a:ext cx="617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ICIATIVA DE LEY DE BIOSEGUR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586728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06720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897264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867280" y="58669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071-FCD6-486B-B343-B00FDFABA6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33200" y="304812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4.12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Etiquetado e Identificación de OGM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6796-52A2-40F6-8E85-4C9866EB18A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76320" y="64764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GMs, productos que los contengan y productos derivados, que sean par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o o consum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3080" y="3505320"/>
            <a:ext cx="25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NO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715000" y="70488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ben etiquetarse conforme a los sigu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886200" y="140976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66760" y="4438800"/>
            <a:ext cx="285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 acuerdo con la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ey General de Salu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y sus disposiciones reglamenta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5638680"/>
            <a:ext cx="10666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209680" y="5638680"/>
            <a:ext cx="1067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5695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09680" y="5695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90400" y="5257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809880" y="2717640"/>
            <a:ext cx="5181840" cy="43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° El etiquetado de OGMs, productos que los contengan y productos derivados, estará sujeto al régimen general de etiquetado de todos los producto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°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icionalmen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si el OGM presenta cambios significativos en su composición alimenticia o en sus propiedades nutricionales, o presente riesgos para la salud, con referencia a su contraparte convencional, será obligatori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signar en la etiqueta esas características del produc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°  La información de las etiquetas deberá ser veraz, objetiva, clara, entendible, útil para el consumidor y sustentada en información científica y técn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191120" y="3124080"/>
            <a:ext cx="4876560" cy="1067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191120" y="4267080"/>
            <a:ext cx="4876560" cy="1524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91120" y="5867280"/>
            <a:ext cx="4876560" cy="762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8" name=""/>
          <p:cNvCxnSpPr>
            <a:stCxn id="856" idx="2"/>
          </p:cNvCxnSpPr>
          <p:nvPr/>
        </p:nvCxnSpPr>
        <p:spPr>
          <a:xfrm flipH="1">
            <a:off x="5866560" y="2257200"/>
            <a:ext cx="1143720" cy="353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9" name=""/>
          <p:cNvCxnSpPr>
            <a:stCxn id="856" idx="2"/>
          </p:cNvCxnSpPr>
          <p:nvPr/>
        </p:nvCxnSpPr>
        <p:spPr>
          <a:xfrm>
            <a:off x="7010280" y="2257200"/>
            <a:ext cx="1372320" cy="353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0" name=""/>
          <p:cNvSpPr/>
          <p:nvPr/>
        </p:nvSpPr>
        <p:spPr>
          <a:xfrm>
            <a:off x="3200400" y="4419720"/>
            <a:ext cx="590400" cy="761760"/>
          </a:xfrm>
          <a:prstGeom prst="left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143000" y="58672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0" y="571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0" y="0"/>
            <a:ext cx="9372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Etiqueta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114800" y="27432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ITERIOS Y LINEAMIENTOS GENE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D89B-1609-43BB-A780-B7962865C9A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-133200" y="76320"/>
            <a:ext cx="937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DENTIFICACIÓN DOCUMENTAL EN LA IMPORTACIÓN DE OG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105520" y="160020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so o consumo human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cesamien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 alimentos para consum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105520" y="990720"/>
            <a:ext cx="37335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stino del OG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105520" y="2727360"/>
            <a:ext cx="3733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ilización confinad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 fines de enseñanza, investigación científica y tecnológica, industriales o comerci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257800" y="440388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eración al ambien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n fases experimental, en programa piloto o come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320" y="1249200"/>
            <a:ext cx="4495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QUISITOS DE INFORM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 LA DOCU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28600" y="432756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N O M 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05520" y="5654520"/>
            <a:ext cx="373356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atados inter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752480" y="2666880"/>
            <a:ext cx="914400" cy="1371600"/>
          </a:xfrm>
          <a:prstGeom prst="downArrow">
            <a:avLst>
              <a:gd name="adj1" fmla="val 50000"/>
              <a:gd name="adj2" fmla="val 37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5" name=""/>
          <p:cNvCxnSpPr>
            <a:stCxn id="882" idx="2"/>
            <a:endCxn id="883" idx="1"/>
          </p:cNvCxnSpPr>
          <p:nvPr/>
        </p:nvCxnSpPr>
        <p:spPr>
          <a:xfrm flipH="1" rot="16200000">
            <a:off x="3310560" y="4270680"/>
            <a:ext cx="732600" cy="28584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6" name=""/>
          <p:cNvCxnSpPr>
            <a:stCxn id="882" idx="3"/>
            <a:endCxn id="878" idx="1"/>
          </p:cNvCxnSpPr>
          <p:nvPr/>
        </p:nvCxnSpPr>
        <p:spPr>
          <a:xfrm flipV="1">
            <a:off x="4266720" y="1218960"/>
            <a:ext cx="839160" cy="36122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7" name=""/>
          <p:cNvSpPr/>
          <p:nvPr/>
        </p:nvSpPr>
        <p:spPr>
          <a:xfrm>
            <a:off x="5105520" y="99072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839080" y="99072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105520" y="5486400"/>
            <a:ext cx="37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105520" y="4400640"/>
            <a:ext cx="37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105520" y="2666880"/>
            <a:ext cx="37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3A51-6E93-4BC8-9565-C58D3BC7054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133200" y="304812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4.13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Información sobre Bioseguridad de OGM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2086-08EF-4C9B-A53A-9A39F82EEF7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38160" y="190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Tahoma"/>
              </a:rPr>
              <a:t>Mecanismos de información - Carácter Públic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28600" y="838080"/>
            <a:ext cx="5029200" cy="1371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0880" y="91440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STEMA NACIONAL DE INFORMACIÓN SOBRE BIO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" y="2971800"/>
            <a:ext cx="5029200" cy="1371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80880" y="30481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GISTRO NACIONAL DE BIOSEGURIDAD DE LOS OG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28600" y="5029200"/>
            <a:ext cx="5029200" cy="1371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0880" y="53341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AS INFORMATIVAS  DE OG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943600" y="914400"/>
            <a:ext cx="289548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076800" y="95256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aría Ejecutiva de la CIBIO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943600" y="3048120"/>
            <a:ext cx="289548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76800" y="308628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aría Ejecutiva de la CIBIO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943600" y="5114880"/>
            <a:ext cx="289548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867280" y="496872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arías competent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ARNAT, SAGARPA y 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7" name=""/>
          <p:cNvCxnSpPr>
            <a:stCxn id="899" idx="3"/>
            <a:endCxn id="905" idx="1"/>
          </p:cNvCxnSpPr>
          <p:nvPr/>
        </p:nvCxnSpPr>
        <p:spPr>
          <a:xfrm>
            <a:off x="5286240" y="5715000"/>
            <a:ext cx="648360" cy="10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08" name=""/>
          <p:cNvCxnSpPr>
            <a:stCxn id="897" idx="3"/>
            <a:endCxn id="903" idx="1"/>
          </p:cNvCxnSpPr>
          <p:nvPr/>
        </p:nvCxnSpPr>
        <p:spPr>
          <a:xfrm>
            <a:off x="5286240" y="3657240"/>
            <a:ext cx="648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09" name=""/>
          <p:cNvCxnSpPr>
            <a:stCxn id="895" idx="3"/>
            <a:endCxn id="901" idx="1"/>
          </p:cNvCxnSpPr>
          <p:nvPr/>
        </p:nvCxnSpPr>
        <p:spPr>
          <a:xfrm>
            <a:off x="5286240" y="1523520"/>
            <a:ext cx="648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9F0D-8FE4-418B-93A2-BF991A5F960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Tahoma"/>
              </a:rPr>
              <a:t>Información sobre Bioseguridad de OGM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552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6320" y="609480"/>
            <a:ext cx="67816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8600" y="76212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STEMA NACIONAL DE INFORMACIÓN SOBRE BIO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991200" y="2327400"/>
            <a:ext cx="20574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cretaría Ejecutiva de la CIBIO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ntro Focal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o de Cartag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"/>
          <p:cNvCxnSpPr>
            <a:stCxn id="912" idx="3"/>
            <a:endCxn id="916" idx="0"/>
          </p:cNvCxnSpPr>
          <p:nvPr/>
        </p:nvCxnSpPr>
        <p:spPr>
          <a:xfrm>
            <a:off x="6857640" y="1219320"/>
            <a:ext cx="1143720" cy="103860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17" name=""/>
          <p:cNvSpPr/>
          <p:nvPr/>
        </p:nvSpPr>
        <p:spPr>
          <a:xfrm>
            <a:off x="8001000" y="1649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 carg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086600" y="2286000"/>
            <a:ext cx="1828800" cy="23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981080" y="1943280"/>
            <a:ext cx="2971800" cy="1904760"/>
          </a:xfrm>
          <a:prstGeom prst="down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514600" y="1943280"/>
            <a:ext cx="19051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T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anizar, difundir y actualizar información so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52280" y="3886200"/>
            <a:ext cx="685800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formes y documentos relevantes, incluyendo la inocuidad de OG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uación general existente en México en biotecnología y biosegur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sideraciones socioeconómicas de los efectos de OGMs liberados al ambiente, considerando el valor que la biodiversidad tiene para las comunidades indígenas y loc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eyes, reglamentos y directrices nacionales para la aplicación del Protocolo de Cartag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úmenes de las evaluaciones de ries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misos, autorizaciones y avi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uerdos y arreglos bilaterales, regionales y multilater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1" name=""/>
          <p:cNvCxnSpPr>
            <a:stCxn id="916" idx="2"/>
            <a:endCxn id="920" idx="3"/>
          </p:cNvCxnSpPr>
          <p:nvPr/>
        </p:nvCxnSpPr>
        <p:spPr>
          <a:xfrm rot="5400000">
            <a:off x="7185960" y="4500360"/>
            <a:ext cx="639000" cy="9914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2" name=""/>
          <p:cNvSpPr/>
          <p:nvPr/>
        </p:nvSpPr>
        <p:spPr>
          <a:xfrm>
            <a:off x="0" y="3886200"/>
            <a:ext cx="7010280" cy="297180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3C91-9F3E-459F-BD10-95045F997C5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914400" y="914400"/>
            <a:ext cx="7315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304200" y="4724280"/>
            <a:ext cx="28191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819520" y="2709720"/>
            <a:ext cx="3504960" cy="43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8600" y="3816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Tahoma"/>
              </a:rPr>
              <a:t>Listas informativas de OGM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581280" y="1066680"/>
            <a:ext cx="1904760" cy="761760"/>
            <a:chOff x="3581280" y="1066680"/>
            <a:chExt cx="1904760" cy="761760"/>
          </a:xfrm>
        </p:grpSpPr>
        <p:sp>
          <p:nvSpPr>
            <p:cNvPr id="928" name=""/>
            <p:cNvSpPr/>
            <p:nvPr/>
          </p:nvSpPr>
          <p:spPr>
            <a:xfrm>
              <a:off x="3581280" y="122256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ahoma"/>
                </a:rPr>
                <a:t>SAGARP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41400" y="1066680"/>
              <a:ext cx="1793160" cy="76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882720" y="1066680"/>
            <a:ext cx="2241360" cy="762120"/>
            <a:chOff x="882720" y="1066680"/>
            <a:chExt cx="2241360" cy="762120"/>
          </a:xfrm>
        </p:grpSpPr>
        <p:sp>
          <p:nvSpPr>
            <p:cNvPr id="931" name=""/>
            <p:cNvSpPr/>
            <p:nvPr/>
          </p:nvSpPr>
          <p:spPr>
            <a:xfrm>
              <a:off x="882720" y="1198440"/>
              <a:ext cx="22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ahoma"/>
                </a:rPr>
                <a:t>SEMARN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52640" y="1066680"/>
              <a:ext cx="1935000" cy="76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6095880" y="1066680"/>
            <a:ext cx="1904760" cy="761760"/>
            <a:chOff x="6095880" y="1066680"/>
            <a:chExt cx="1904760" cy="761760"/>
          </a:xfrm>
        </p:grpSpPr>
        <p:sp>
          <p:nvSpPr>
            <p:cNvPr id="934" name=""/>
            <p:cNvSpPr/>
            <p:nvPr/>
          </p:nvSpPr>
          <p:spPr>
            <a:xfrm>
              <a:off x="6095880" y="122256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ahoma"/>
                </a:rPr>
                <a:t>S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156720" y="1066680"/>
              <a:ext cx="1792440" cy="76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3352680" y="2743200"/>
            <a:ext cx="22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Listas de OG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5791320" y="4800600"/>
            <a:ext cx="3047400" cy="1447920"/>
            <a:chOff x="5791320" y="4800600"/>
            <a:chExt cx="3047400" cy="1447920"/>
          </a:xfrm>
        </p:grpSpPr>
        <p:sp>
          <p:nvSpPr>
            <p:cNvPr id="938" name=""/>
            <p:cNvSpPr/>
            <p:nvPr/>
          </p:nvSpPr>
          <p:spPr>
            <a:xfrm flipH="1">
              <a:off x="5833440" y="4800600"/>
              <a:ext cx="2813040" cy="144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91320" y="5001120"/>
              <a:ext cx="304740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" sz="1300" spc="-1" strike="noStrike">
                  <a:solidFill>
                    <a:srgbClr val="000000"/>
                  </a:solidFill>
                  <a:latin typeface="Tahoma"/>
                </a:rPr>
                <a:t>Exentos de avis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" sz="1300" spc="-1" strike="noStrike">
                  <a:solidFill>
                    <a:srgbClr val="000000"/>
                  </a:solidFill>
                  <a:latin typeface="Tahoma"/>
                </a:rPr>
                <a:t>Exentos de autorización sanitari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0" name=""/>
          <p:cNvSpPr/>
          <p:nvPr/>
        </p:nvSpPr>
        <p:spPr>
          <a:xfrm>
            <a:off x="2057400" y="2157480"/>
            <a:ext cx="5486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Expedirán y publicarán periodic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76280" y="4952880"/>
            <a:ext cx="2514600" cy="14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Tahoma"/>
              </a:rPr>
              <a:t>Que cuenten con permiso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Tahoma"/>
              </a:rPr>
              <a:t>Que no cuenten conpermiso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Tahoma"/>
              </a:rPr>
              <a:t>Que cuenten con autorización para comercializ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52280" y="4081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Resultado de Trám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638680" y="40212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De oficio o a solicitud de interes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rot="2902800">
            <a:off x="2057040" y="3200040"/>
            <a:ext cx="762120" cy="76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 rot="18697200">
            <a:off x="6399360" y="3200040"/>
            <a:ext cx="762120" cy="76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28600" y="640080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TA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ara su liberación comercial o su importación para liberarlos comercial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6589-4AD9-44FC-AFB1-ADAB4336C2D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133200" y="2666880"/>
            <a:ext cx="883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4.14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Inspección y vigilancia y Medidas correctivas o de Urgente aplicació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0E3-F0F0-4297-A78C-B6A9452D409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Tahoma"/>
              </a:rPr>
              <a:t>INSPECCIÓN Y VIGILANCI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0" y="552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14480" y="1676520"/>
            <a:ext cx="4838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ahoma"/>
              </a:rPr>
              <a:t>ACTOS DE INSPECCIÓN Y VIGILANCI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791320" y="685800"/>
            <a:ext cx="320040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BJET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icar y comproba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cumplimiento d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glamento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876920" y="205740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295280" y="4314960"/>
            <a:ext cx="2362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MARN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GAR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476440" y="268596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54" idx="3"/>
            <a:endCxn id="952" idx="2"/>
          </p:cNvCxnSpPr>
          <p:nvPr/>
        </p:nvCxnSpPr>
        <p:spPr>
          <a:xfrm flipV="1">
            <a:off x="3657600" y="3760200"/>
            <a:ext cx="3734640" cy="14562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E6A4-C948-4B8E-83DF-FE4810BE329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MEDIDAS DE SEGURIDAD O DE URGENTE APL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04920" y="2286000"/>
            <a:ext cx="2133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UPUEST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895480" y="68580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gimiento de riesgos no previstos origin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895480" y="1295280"/>
            <a:ext cx="62485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 causen daños o efectos adversos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La salud huma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La diversidad biológica,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La sanidad animal, vegetal o acuíc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895480" y="327672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 liberen accidentalmente OGMs no permitidos y/o autoriz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666880" y="685800"/>
            <a:ext cx="0" cy="335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362320" y="2514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971800" y="4403880"/>
            <a:ext cx="3505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IPOS DE MEDID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04920" y="53341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ausura de lugares y/o instalac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04920" y="57150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eguramiento precautorio de bie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04920" y="61102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spensión de la activid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419720" y="53341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atriación de OGMs a su país de ori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419720" y="572940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iones y medidas necesarias para evitar mayores dañ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419720" y="633888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trucción de OG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stCxn id="959" idx="2"/>
            <a:endCxn id="965" idx="1"/>
          </p:cNvCxnSpPr>
          <p:nvPr/>
        </p:nvCxnSpPr>
        <p:spPr>
          <a:xfrm flipH="1" rot="16200000">
            <a:off x="1237320" y="2922480"/>
            <a:ext cx="1867680" cy="16009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45AB-828B-4717-A238-11F966C23BD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9160" y="0"/>
            <a:ext cx="8991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CO INTERNACIONAL </a:t>
            </a:r>
            <a:br>
              <a:rPr sz="2400"/>
            </a:br>
            <a:br>
              <a:rPr sz="3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Ámbitos Jurídico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062000"/>
            <a:ext cx="17524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1062000"/>
            <a:ext cx="17524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10280" y="1062000"/>
            <a:ext cx="175284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519200"/>
            <a:ext cx="0" cy="53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213372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ZACIÓN MUNDIAL DE COMER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2127240"/>
            <a:ext cx="221004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27367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320" y="4051440"/>
            <a:ext cx="213336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didas Sanitarias y Fitosanita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4740120"/>
            <a:ext cx="213336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táculos Técnicos al Comer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3968640"/>
            <a:ext cx="152280" cy="1427400"/>
          </a:xfrm>
          <a:custGeom>
            <a:avLst/>
            <a:gdLst>
              <a:gd name="textAreaLeft" fmla="*/ 0 w 152280"/>
              <a:gd name="textAreaRight" fmla="*/ 55080 w 152280"/>
              <a:gd name="textAreaTop" fmla="*/ 37080 h 1427400"/>
              <a:gd name="textAreaBottom" fmla="*/ 1390320 h 14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09960" y="224316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GRAMA DE LAS NACIONES UNIDAS PARA EL MEDIO AMBIEN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2127240"/>
            <a:ext cx="365760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4524480"/>
            <a:ext cx="1780920" cy="6991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IOSEGUR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924680" y="1519200"/>
            <a:ext cx="0" cy="53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03680" y="1519200"/>
            <a:ext cx="0" cy="53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05320" y="3041640"/>
            <a:ext cx="2133360" cy="52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nio de la Diversidad Bi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75040" y="4506840"/>
            <a:ext cx="2108520" cy="72180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OVECHAMIENTO DE RECURSOS GENÉT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99200" y="2136600"/>
            <a:ext cx="16002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X ALIMENTARIU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OMS/FA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2127240"/>
            <a:ext cx="144756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4680" y="2736720"/>
            <a:ext cx="0" cy="175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24840" y="4481640"/>
            <a:ext cx="1476360" cy="6991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OCU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5450040"/>
            <a:ext cx="2133720" cy="51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PIEDAD INTELECT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IP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943600" y="5248080"/>
            <a:ext cx="0" cy="53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7834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70560" y="35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5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2735280"/>
            <a:ext cx="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595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70280" y="6097680"/>
            <a:ext cx="1774800" cy="9352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TOCOL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 CARTAG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51530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924680" y="5285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647960" y="64198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4710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262-2187-4159-A153-C887708504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133200" y="3260880"/>
            <a:ext cx="883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4.15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Responsabilidad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776C-0CE2-4C68-AE74-0469A5A25BF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1371600" y="1143000"/>
            <a:ext cx="6858000" cy="137160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dddddd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71360" y="0"/>
            <a:ext cx="897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Tahoma"/>
              </a:rPr>
              <a:t>Responsabilida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523880" y="1281240"/>
            <a:ext cx="6705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y de Bioseguridad de OG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uestos de responsabilidad administ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62120" y="28954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licable con independencia de que pudiera surg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33200" y="4191120"/>
            <a:ext cx="2895840" cy="1600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33200" y="4248000"/>
            <a:ext cx="28958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sponsabilidad pe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ículo 420 Ter del Código Penal Fed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181320" y="4191120"/>
            <a:ext cx="2819520" cy="1600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181320" y="4248000"/>
            <a:ext cx="2743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sponsabilidad ci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ódigo Civil Fed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229440" y="4191120"/>
            <a:ext cx="2743200" cy="1600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229440" y="4248000"/>
            <a:ext cx="2743200" cy="14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sponsabilidad 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ículo 203 de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GEE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5" name=""/>
          <p:cNvCxnSpPr>
            <a:stCxn id="978" idx="2"/>
            <a:endCxn id="979" idx="0"/>
          </p:cNvCxnSpPr>
          <p:nvPr/>
        </p:nvCxnSpPr>
        <p:spPr>
          <a:xfrm rot="5400000">
            <a:off x="2671200" y="2261880"/>
            <a:ext cx="810360" cy="2991600"/>
          </a:xfrm>
          <a:prstGeom prst="bentConnector3">
            <a:avLst>
              <a:gd name="adj1" fmla="val 5173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6" name=""/>
          <p:cNvSpPr/>
          <p:nvPr/>
        </p:nvSpPr>
        <p:spPr>
          <a:xfrm>
            <a:off x="4572000" y="35812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7" name=""/>
          <p:cNvCxnSpPr>
            <a:stCxn id="978" idx="2"/>
            <a:endCxn id="983" idx="0"/>
          </p:cNvCxnSpPr>
          <p:nvPr/>
        </p:nvCxnSpPr>
        <p:spPr>
          <a:xfrm flipH="1" rot="16200000">
            <a:off x="5681520" y="2242440"/>
            <a:ext cx="810360" cy="3029760"/>
          </a:xfrm>
          <a:prstGeom prst="bentConnector3">
            <a:avLst>
              <a:gd name="adj1" fmla="val 5173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8" name="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630-C1BA-47C2-85A1-84B7741734B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7240" y="85680"/>
            <a:ext cx="89913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Tahoma"/>
              </a:rPr>
              <a:t>Protocolo de Cartagena</a:t>
            </a:r>
            <a:r>
              <a:rPr b="0" lang="es-MX" sz="3000" spc="-1" strike="noStrike">
                <a:solidFill>
                  <a:srgbClr val="000000"/>
                </a:solidFill>
                <a:latin typeface="Tahoma"/>
              </a:rPr>
              <a:t> - Aspectos bás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2286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NTRADA EN VIGOR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90 (noventa) días posteriores a su ratificación por 50 (cincuenta) países signatarios del Convenio sobre la Diversidad Biológic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6925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ATIFICACIÓ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partir del pasado 30 de mayo de 2003, ya fue ratificado por 50 (cincuenta) países. Entrará en vigor para México el próximo 11 de septiembre de 200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5105520"/>
            <a:ext cx="914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PLICACIÓN DEL PROTOCOLO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n caso de que los países signatario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o cuente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 una legislación interna en materia de bioseguridad de OVMs, al momento de que entre en vigor, aplicarán las disposiciones del Protocolo en ausencia de legislació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1098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DOPCIÓN DEL PROTOCOLO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Adoptado el 29 de enero de 2000 por más de 130 países, y México lo ratificó el 30 de abril de 2002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EF4-0ABC-4D6F-A996-D3CB7931FA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-144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PRINCIPIOS ORIENTADORES DE LA INICIATIVA, DERIVADOS DEL DICTAMEN DEL SENADO POR EL QUE SE APROBÓ EL PROTOCOLO DE CARTAG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7360" y="108576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143000"/>
            <a:ext cx="9144000" cy="56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ahoma"/>
              </a:rPr>
              <a:t>La biotecnología guarda estrecha relación con la biosegurida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ahoma"/>
              </a:rPr>
              <a:t>El Protocolo refleja la preocupación de la comunidad internacional sobre los riesgos probables para la bioseguridad y la salud humana en la aplicación de la biotecnología moder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ahoma"/>
              </a:rPr>
              <a:t>Nuestro país cuenta con regulaciones en materia de bioseguridad mínimas y dispers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ahoma"/>
              </a:rPr>
              <a:t>Se requiere de una ley que específicamente se refiera a la bioseguridad y que sea compatible con las normas de instrumentación del Protocol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ahoma"/>
              </a:rPr>
              <a:t>México enfrenta el enorme reto de aprovechar al máximo el potencial de la biotecnología con responsabilidad y concienc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ahoma"/>
              </a:rPr>
              <a:t>Se requiere proteger la diversidad biológica y atender preventivamente riesgos a la salud humana, sin generar obstáculos innecesarios al comercio exterio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DD41-0260-457B-AE81-8986D1A446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0:16:20Z</dcterms:created>
  <dc:creator/>
  <dc:description/>
  <dc:language>en-US</dc:language>
  <cp:lastModifiedBy>GAE_1</cp:lastModifiedBy>
  <cp:lastPrinted>2003-06-25T17:31:21Z</cp:lastPrinted>
  <dcterms:modified xsi:type="dcterms:W3CDTF">2003-06-26T16:18:01Z</dcterms:modified>
  <cp:revision>484</cp:revision>
  <dc:subject/>
  <dc:title>Sin título de diapositiva</dc:title>
</cp:coreProperties>
</file>